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28A9-4535-44CE-9D0A-A58A5DD68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E4E3-B4A7-4D43-A84F-7C26D6F08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7452-0FFB-47F3-B4C2-D033D5A6B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C481-0083-4AA6-8DF4-246093307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BAD8-8A9D-4CA9-ABD6-3F626DF8D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C52F-A10F-4011-879A-9303F8096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477B-B7D0-4B9F-A128-3A626522A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E82B-F7D3-427C-8135-BF26B84EA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A349-7C31-48F1-A9F7-3AEFE106D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18F9-8999-464C-87A0-84E2C1F0A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7E9D-CF1B-40C6-BFF7-E2CA843C4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BCE0-17FF-4C41-AAE3-CEE42DF72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C5B4-88CA-4544-9106-452EC2F4C4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hannel9.msdn.com/posts/Charles/Jeffrey-Richter-and-his-AsyncEnumerator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 Tipp: AsyncExecutor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17.02.200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alf Hoffman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ralf.hoffmann    gmx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693880" y="6591240"/>
            <a:ext cx="182520" cy="2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85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ynchroner Aufruf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5486040"/>
            <a:ext cx="8763120" cy="1143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Vortei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Eine Methode für die komplette Ak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Nachtei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Blockiert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n UI Threa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2280" y="1447920"/>
            <a:ext cx="8763120" cy="350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Synchronous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Collection.Clea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Message =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"Loading Persons..."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72bfc5"/>
                </a:solidFill>
                <a:latin typeface="Courier New"/>
                <a:ea typeface="Courier New"/>
              </a:rPr>
              <a:t>Li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ons = provider.GetPerson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forea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Collection.Add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72bfc5"/>
                </a:solidFill>
                <a:latin typeface="Courier New"/>
                <a:ea typeface="Courier New"/>
              </a:rPr>
              <a:t>Perso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 Name = name 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Message =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"Finished loading persons"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5"/>
          <p:cNvSpPr/>
          <p:nvPr/>
        </p:nvSpPr>
        <p:spPr>
          <a:xfrm>
            <a:off x="6095880" y="914400"/>
            <a:ext cx="2514600" cy="1069920"/>
          </a:xfrm>
          <a:prstGeom prst="wedgeRoundRectCallout">
            <a:avLst>
              <a:gd name="adj1" fmla="val -50814"/>
              <a:gd name="adj2" fmla="val 103750"/>
              <a:gd name="adj3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oundtrip zum Server – Kann lange dau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3809880" y="2514600"/>
            <a:ext cx="289584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85440" cy="67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ynchron mit </a:t>
            </a:r>
            <a:r>
              <a:rPr b="1" lang="de-DE" sz="3200" spc="-1" strike="noStrike" u="sng">
                <a:solidFill>
                  <a:srgbClr val="f69200"/>
                </a:solidFill>
                <a:uFillTx/>
                <a:latin typeface="Verdana"/>
              </a:rPr>
              <a:t>BackgroundWork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76320" y="1295280"/>
            <a:ext cx="897876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BackgroundWork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Worker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76320" y="1752480"/>
            <a:ext cx="8978760" cy="131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_StartBackgroundWork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Create worker and attach to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Start the wor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90360" y="3048120"/>
            <a:ext cx="897732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Worker_DoWork(object sender, DoWorkEventArgs 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de-DE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Do the roundtrip and set e.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146880" y="4038480"/>
            <a:ext cx="883728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PersonsWorker_RunWorkerCompleted(object sender, Args 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de-DE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get and cast e.Results and fill the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haltsplatzhalter 2"/>
          <p:cNvSpPr/>
          <p:nvPr/>
        </p:nvSpPr>
        <p:spPr>
          <a:xfrm>
            <a:off x="152280" y="5334120"/>
            <a:ext cx="8763120" cy="12189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Vortei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ockiert den UI Thread n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Nachtei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 zusätzliche Methoden und eine Instanzvaria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erschachteln ist sehr schwierig und unübersichtl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9"/>
          <p:cNvSpPr/>
          <p:nvPr/>
        </p:nvSpPr>
        <p:spPr>
          <a:xfrm>
            <a:off x="228600" y="1219320"/>
            <a:ext cx="8720280" cy="4231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rivate void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GetPersonsSynchronous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sonCollection.Clea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</a:rPr>
              <a:t>"Loading Persons...";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List&lt;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string&gt; persons = provider.GetPerson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foreach (var name in pers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sonCollection.Add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Person { Name = name 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</a:rPr>
              <a:t>"Finished loading persons“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85440" cy="67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ynchron mit </a:t>
            </a:r>
            <a:r>
              <a:rPr b="1" lang="de-DE" sz="3200" spc="-1" strike="noStrike" u="sng">
                <a:solidFill>
                  <a:srgbClr val="f69200"/>
                </a:solidFill>
                <a:uFillTx/>
                <a:latin typeface="Verdana"/>
              </a:rPr>
              <a:t>AsyncExecuto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5638320"/>
            <a:ext cx="8763120" cy="1143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Vortei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ockiert den UI Thread nicht; Nur eine Methode für d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anze Aktion; Verschachteln einf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Nachtei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28600" y="1219320"/>
            <a:ext cx="8720280" cy="4231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GetPersons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Async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UIThre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Collection.Clea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</a:rPr>
              <a:t>"Loading Persons...";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WorkerThre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List&lt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ring&gt; persons = provider.GetPerson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UIThread;  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foreach (var name in pers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Collection.Add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ew 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Person { Name = name 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</a:rPr>
              <a:t>"Finished loading persons“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e started man eine Aktio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04640" y="1905120"/>
            <a:ext cx="8547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ötige Methoden Signat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800" spc="-1" strike="noStrike">
                <a:solidFill>
                  <a:srgbClr val="2b91a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GetPersonsAsync</a:t>
            </a:r>
            <a:r>
              <a:rPr b="0" lang="en-US" sz="1800" spc="-1" strike="noStrike">
                <a:solidFill>
                  <a:srgbClr val="2b91af"/>
                </a:solidFill>
                <a:latin typeface="Courier New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m Constru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ncExecutor =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new </a:t>
            </a:r>
            <a:r>
              <a:rPr b="1" lang="en-US" sz="1800" spc="-1" strike="noStrike">
                <a:solidFill>
                  <a:srgbClr val="2b91af"/>
                </a:solidFill>
                <a:latin typeface="Courier New"/>
              </a:rPr>
              <a:t>AsyncExecu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Click Handler (oder CommandBinding Execu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ncExecutor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Execu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GetPersonsAsyn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e verschachtelt man Aktion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82600" y="1600200"/>
            <a:ext cx="85928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 benutz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Executor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anstat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Execu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s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oGetAgesAsynchronously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GetPersonsAsync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Switch to Worker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WorkerThread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yncExecutor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oGetAgesAsynchronous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964720" cy="52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e funktioniert der </a:t>
            </a:r>
            <a:r>
              <a:rPr b="1" i="1" lang="de-DE" sz="3200" spc="-1" strike="noStrike">
                <a:solidFill>
                  <a:srgbClr val="f69200"/>
                </a:solidFill>
                <a:latin typeface="Verdana"/>
              </a:rPr>
              <a:t>AsyncExecutor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18960"/>
            <a:ext cx="8785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  <a:ea typeface="Courier New"/>
              </a:rPr>
              <a:t>SwitchExecutionCont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t eine Enumeration mit 2 Werten: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UIThrea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WorkerTh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 </a:t>
            </a: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Constructo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d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Executo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ird der aktuell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nchronizationCont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gelesen und einer Klassenvariable zugewies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StartExecution (methodToExecute)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iest eine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Enumerator&lt;SwitchExecutionContext&gt;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ls Rückgabewert der gegebenen Method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N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ird auf de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Enumerato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fgerufen. Die Ausführung läuft dann vo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ield retur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u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ield retur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.Net 2.0 Feature)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e nach Rückgabewert wird dann das nächst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N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f einem Threadpool Thread (der zu Beginn der Methode bestimmt wird) oder auf dem UI Thread ausgeführt.</a:t>
            </a:r>
            <a:br>
              <a:rPr sz="2000"/>
            </a:b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IsBusy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rd beim Start gesetzt, und am Ende wieder zurückgesetz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Execute(methodToExecute)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nutzt den aktuellen Thread als Workerth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spiriert v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channel9.msdn.com/posts/Charles/Jeffrey-Richter-and-his-AsyncEnumerator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3:52:03Z</dcterms:created>
  <dc:creator>RalfHo</dc:creator>
  <dc:description/>
  <dc:language>en-US</dc:language>
  <cp:lastModifiedBy>RalfHo</cp:lastModifiedBy>
  <dcterms:modified xsi:type="dcterms:W3CDTF">2009-02-16T15:41:20Z</dcterms:modified>
  <cp:revision>39</cp:revision>
  <dc:subject/>
  <dc:title>Titel des Vortrags</dc:title>
</cp:coreProperties>
</file>