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5AF4-45F8-4431-8422-7F31B65C2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7336-471A-4988-B243-E06AC3A1F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D53C-A6A7-461E-9CE1-023FAA431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0BF6-BE8F-4207-A9A2-67BC946B9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1539-FBDF-4F9A-B5DE-C60436D04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F5E5-7C9A-4751-9F5E-D2A1D1E05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0CA8-6355-4467-968D-C63B8A757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01E6-B8D9-4840-B242-EAA113021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2A56-C92A-49BB-B461-460F96C55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75B6-C154-443B-BC0B-EEA4BBD44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E671-DA7E-42F7-A632-65C0A30CB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E60F-0B74-4A16-B17C-76169B8A3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EDF5-71FA-4F9A-868E-4C7A75AED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ms164903(VS.80).aspx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 Tip: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S 2005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„Make Object ID“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2.05.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erhard Schlem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atch-Fenster werden Objekte in der Regel durch ihren Namen im aktuellen Scope identifizi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durch können die Objekte nicht dauerhaf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geseh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ziehungen zwischen mehreren Objekten werden im Watch-Fenster nicht 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s ist aber im Watch-Fenster auch möglich, mit der echten Identität beobachteter Objekte zu arb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rundlegendes Prin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bjekt anhand seinen Namens als Watch einfügen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m es initial zu identifiz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S mitteilen, daß das Objekt ab jetzt zusätzlich per echter Objektidentität indentifiziert werden so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Kontextmenü im Watch-Fenster: „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ke Object ID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S vergibt dann eine Alias der Form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&lt;Zahl&gt;#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ür das Ob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ßerdem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l das Objekt dauerhaft im Watch-Fenster erscheinen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ann es unter seinem Alias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&lt;Zahl&gt;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hinzugefüg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züge zwischen Objekten werden sichtbar – hat ein Objekt ein Alias, wird dieses im Watch-Fenster mit angezei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per Alias bezeichneten Objekte können z.B. bei bedingten Breakpoints verwend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ispiel: Breakpoint auf die Ausführung einer Method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ines bestimmten, per Alias identifizierten Objekts beschränk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Identifizierung eines Objekts per Alias kann über das Kontextmenü mit „Delete Object ID“ ausgeschalt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30715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bugging und Objektidentitä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merku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ilt nicht nur für das Watch-Fenster, sondern auch für die Quickwatch-Anzei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ur C#, nicht V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2005 und OR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ab es bei Objekten, die „unmanaged“ sind, schon immer über deren Adressen ;-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5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msdn2.microsoft.com/en-us/library/ms164903(VS.80).asp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4:12:06Z</dcterms:created>
  <dc:creator>Gerhard Schlemm</dc:creator>
  <dc:description/>
  <dc:language>en-US</dc:language>
  <cp:lastModifiedBy>Gerhard Schlemm</cp:lastModifiedBy>
  <dcterms:modified xsi:type="dcterms:W3CDTF">2007-05-22T16:03:07Z</dcterms:modified>
  <cp:revision>15</cp:revision>
  <dc:subject/>
  <dc:title>Quick Tip: VS 2005 „Make Object ID“</dc:title>
</cp:coreProperties>
</file>