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79280" y="1643040"/>
            <a:ext cx="87854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79280" y="4366800"/>
            <a:ext cx="87854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79280" y="1643040"/>
            <a:ext cx="42872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1440" y="1643040"/>
            <a:ext cx="42872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79280" y="4366800"/>
            <a:ext cx="42872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1440" y="4366800"/>
            <a:ext cx="42872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79280" y="1643040"/>
            <a:ext cx="28285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49640" y="1643040"/>
            <a:ext cx="28285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20000" y="1643040"/>
            <a:ext cx="28285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79280" y="4366800"/>
            <a:ext cx="28285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49640" y="4366800"/>
            <a:ext cx="28285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20000" y="4366800"/>
            <a:ext cx="28285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50FC06-1F5A-4D2D-A6C6-D234A14D6C1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79280" y="1643040"/>
            <a:ext cx="8785440" cy="52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3F80BD-3AD4-4CC9-B31A-F96B975F89C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79280" y="1643040"/>
            <a:ext cx="878544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A0A3EB-2DCF-4911-812B-C302FF4458E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79280" y="1643040"/>
            <a:ext cx="428724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81440" y="1643040"/>
            <a:ext cx="428724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C5841D-C0A0-430A-99B5-F2BC8F88487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B705FA-1E2C-4ACB-8E31-DF5D47B5F92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79280" y="691920"/>
            <a:ext cx="8785440" cy="44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2885DE-220E-4882-8109-80CC0B508F1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79280" y="1643040"/>
            <a:ext cx="42872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81440" y="1643040"/>
            <a:ext cx="428724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79280" y="4366800"/>
            <a:ext cx="42872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43E6BA-AFC4-4D1C-9C05-B7177E7BEDD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79280" y="1643040"/>
            <a:ext cx="8785440" cy="52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79280" y="1643040"/>
            <a:ext cx="428724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1440" y="1643040"/>
            <a:ext cx="42872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81440" y="4366800"/>
            <a:ext cx="42872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AC563B-34D4-4EF5-8D28-169B5ACE939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79280" y="1643040"/>
            <a:ext cx="42872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1440" y="1643040"/>
            <a:ext cx="42872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79280" y="4366800"/>
            <a:ext cx="87854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3261E1-3DEE-40D7-B87E-00A10AA71D5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79280" y="1643040"/>
            <a:ext cx="87854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79280" y="4366800"/>
            <a:ext cx="87854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FA299B-E9C1-42CF-8C3E-764AF2B9129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79280" y="1643040"/>
            <a:ext cx="42872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81440" y="1643040"/>
            <a:ext cx="42872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79280" y="4366800"/>
            <a:ext cx="42872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81440" y="4366800"/>
            <a:ext cx="42872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F1A806-32BE-4848-83B4-87E06F4D0E2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9280" y="1643040"/>
            <a:ext cx="28285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149640" y="1643040"/>
            <a:ext cx="28285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20000" y="1643040"/>
            <a:ext cx="28285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79280" y="4366800"/>
            <a:ext cx="28285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149640" y="4366800"/>
            <a:ext cx="28285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20000" y="4366800"/>
            <a:ext cx="28285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60D97E-A642-4189-BFB4-9B653638C4B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79280" y="1643040"/>
            <a:ext cx="878544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79280" y="1643040"/>
            <a:ext cx="428724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1440" y="1643040"/>
            <a:ext cx="428724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79280" y="691920"/>
            <a:ext cx="8785440" cy="44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79280" y="1643040"/>
            <a:ext cx="42872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1440" y="1643040"/>
            <a:ext cx="428724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79280" y="4366800"/>
            <a:ext cx="42872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79280" y="1643040"/>
            <a:ext cx="428724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1440" y="1643040"/>
            <a:ext cx="42872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1440" y="4366800"/>
            <a:ext cx="42872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79280" y="1643040"/>
            <a:ext cx="42872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1440" y="1643040"/>
            <a:ext cx="42872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79280" y="4366800"/>
            <a:ext cx="87854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5"/>
          <p:cNvSpPr/>
          <p:nvPr/>
        </p:nvSpPr>
        <p:spPr>
          <a:xfrm>
            <a:off x="7020000" y="189000"/>
            <a:ext cx="212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Verdana"/>
              </a:rPr>
              <a:t>bonn-to-code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9" descr=""/>
          <p:cNvPicPr/>
          <p:nvPr/>
        </p:nvPicPr>
        <p:blipFill>
          <a:blip r:embed="rId2"/>
          <a:srcRect l="0" t="6770" r="16624" b="5685"/>
          <a:stretch/>
        </p:blipFill>
        <p:spPr>
          <a:xfrm>
            <a:off x="0" y="0"/>
            <a:ext cx="9144000" cy="576360"/>
          </a:xfrm>
          <a:prstGeom prst="rect">
            <a:avLst/>
          </a:prstGeom>
          <a:ln w="0">
            <a:noFill/>
          </a:ln>
        </p:spPr>
      </p:pic>
      <p:sp>
        <p:nvSpPr>
          <p:cNvPr id="2" name="Rectangle 11"/>
          <p:cNvSpPr/>
          <p:nvPr/>
        </p:nvSpPr>
        <p:spPr>
          <a:xfrm>
            <a:off x="468360" y="2852640"/>
            <a:ext cx="8229600" cy="57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 Box 12"/>
          <p:cNvSpPr/>
          <p:nvPr/>
        </p:nvSpPr>
        <p:spPr>
          <a:xfrm>
            <a:off x="7020000" y="189000"/>
            <a:ext cx="212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Verdana"/>
              </a:rPr>
              <a:t>bonn-to-code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13"/>
          <p:cNvSpPr/>
          <p:nvPr/>
        </p:nvSpPr>
        <p:spPr>
          <a:xfrm>
            <a:off x="0" y="549360"/>
            <a:ext cx="9144000" cy="7308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100000">
                <a:srgbClr val="008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5"/>
          <p:cNvSpPr/>
          <p:nvPr/>
        </p:nvSpPr>
        <p:spPr>
          <a:xfrm>
            <a:off x="7020000" y="189000"/>
            <a:ext cx="212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Verdana"/>
              </a:rPr>
              <a:t>bonn-to-code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9" descr=""/>
          <p:cNvPicPr/>
          <p:nvPr/>
        </p:nvPicPr>
        <p:blipFill>
          <a:blip r:embed="rId3"/>
          <a:srcRect l="0" t="6770" r="16624" b="5685"/>
          <a:stretch/>
        </p:blipFill>
        <p:spPr>
          <a:xfrm>
            <a:off x="0" y="0"/>
            <a:ext cx="9144000" cy="576360"/>
          </a:xfrm>
          <a:prstGeom prst="rect">
            <a:avLst/>
          </a:prstGeom>
          <a:ln w="0">
            <a:noFill/>
          </a:ln>
        </p:spPr>
      </p:pic>
      <p:sp>
        <p:nvSpPr>
          <p:cNvPr id="7" name="Text Box 12"/>
          <p:cNvSpPr/>
          <p:nvPr/>
        </p:nvSpPr>
        <p:spPr>
          <a:xfrm>
            <a:off x="7020000" y="189000"/>
            <a:ext cx="212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Verdana"/>
              </a:rPr>
              <a:t>bonn-to-code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3"/>
          <p:cNvSpPr/>
          <p:nvPr/>
        </p:nvSpPr>
        <p:spPr>
          <a:xfrm>
            <a:off x="0" y="549360"/>
            <a:ext cx="9144000" cy="7308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100000">
                <a:srgbClr val="008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body"/>
          </p:nvPr>
        </p:nvSpPr>
        <p:spPr>
          <a:xfrm>
            <a:off x="179280" y="1643040"/>
            <a:ext cx="878544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344600" indent="-27288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795320" indent="-27144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236680" indent="-26172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236680" indent="-26172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236680" indent="-26172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692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2" descr=""/>
          <p:cNvPicPr/>
          <p:nvPr/>
        </p:nvPicPr>
        <p:blipFill>
          <a:blip r:embed="rId2"/>
          <a:srcRect l="0" t="6770" r="16624" b="5685"/>
          <a:stretch/>
        </p:blipFill>
        <p:spPr>
          <a:xfrm>
            <a:off x="0" y="0"/>
            <a:ext cx="9144000" cy="57636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179280" y="1643040"/>
            <a:ext cx="878544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344600" indent="-27288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795320" indent="-27144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236680" indent="-26172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236680" indent="-26172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236680" indent="-26172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692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50" name="Text Box 19"/>
          <p:cNvSpPr/>
          <p:nvPr/>
        </p:nvSpPr>
        <p:spPr>
          <a:xfrm>
            <a:off x="7020000" y="189000"/>
            <a:ext cx="212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Verdana"/>
              </a:rPr>
              <a:t>bonn-to-code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3"/>
          <p:cNvSpPr/>
          <p:nvPr/>
        </p:nvSpPr>
        <p:spPr>
          <a:xfrm>
            <a:off x="0" y="549360"/>
            <a:ext cx="9144000" cy="7308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100000">
                <a:srgbClr val="008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680364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47FD9-98AB-4659-9DBF-59DFEDD261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2" descr=""/>
          <p:cNvPicPr/>
          <p:nvPr/>
        </p:nvPicPr>
        <p:blipFill>
          <a:blip r:embed="rId3"/>
          <a:srcRect l="0" t="6770" r="16624" b="5685"/>
          <a:stretch/>
        </p:blipFill>
        <p:spPr>
          <a:xfrm>
            <a:off x="0" y="0"/>
            <a:ext cx="9144000" cy="576360"/>
          </a:xfrm>
          <a:prstGeom prst="rect">
            <a:avLst/>
          </a:prstGeom>
          <a:ln w="0">
            <a:noFill/>
          </a:ln>
        </p:spPr>
      </p:pic>
      <p:sp>
        <p:nvSpPr>
          <p:cNvPr id="54" name="Text Box 19"/>
          <p:cNvSpPr/>
          <p:nvPr/>
        </p:nvSpPr>
        <p:spPr>
          <a:xfrm>
            <a:off x="7020000" y="189000"/>
            <a:ext cx="212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Verdana"/>
              </a:rPr>
              <a:t>bonn-to-code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3"/>
          <p:cNvSpPr/>
          <p:nvPr/>
        </p:nvSpPr>
        <p:spPr>
          <a:xfrm>
            <a:off x="0" y="549360"/>
            <a:ext cx="9144000" cy="7308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100000">
                <a:srgbClr val="008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dvb-1@psimarron.net" TargetMode="External"/><Relationship Id="rId2" Type="http://schemas.openxmlformats.org/officeDocument/2006/relationships/hyperlink" Target="http://www.jochen.jochen-manns.de/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920" y="2336400"/>
            <a:ext cx="8713800" cy="142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Client / Server Architektur</a:t>
            </a:r>
            <a:br>
              <a:rPr sz="3200"/>
            </a:br>
            <a:r>
              <a:rPr b="1" i="1" lang="de-DE" sz="2400" spc="-1" strike="noStrike">
                <a:solidFill>
                  <a:srgbClr val="f69200"/>
                </a:solidFill>
                <a:latin typeface="Verdana"/>
              </a:rPr>
              <a:t>Am Beispiel des VCR.NET Recording Service</a:t>
            </a:r>
            <a:endParaRPr b="1" lang="en-US" sz="24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54160" y="3828960"/>
            <a:ext cx="6835680" cy="145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24.04.2007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Dr. Jochen Man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Rectangle 8"/>
          <p:cNvSpPr/>
          <p:nvPr/>
        </p:nvSpPr>
        <p:spPr>
          <a:xfrm>
            <a:off x="108000" y="5951520"/>
            <a:ext cx="8893080" cy="9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72216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Verdana"/>
              </a:rPr>
              <a:t>EMail:</a:t>
            </a:r>
            <a:r>
              <a:rPr b="1" lang="de-DE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de-DE" sz="1400" spc="-1" strike="noStrike" u="sng">
                <a:solidFill>
                  <a:srgbClr val="0000ff"/>
                </a:solidFill>
                <a:uFillTx/>
                <a:latin typeface="Verdana"/>
                <a:hlinkClick r:id="rId1"/>
              </a:rPr>
              <a:t>mailto:dvb-1@psimarron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216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Verdana"/>
              </a:rPr>
              <a:t>Website:</a:t>
            </a: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400" spc="-1" strike="noStrike" u="sng">
                <a:solidFill>
                  <a:srgbClr val="0000ff"/>
                </a:solidFill>
                <a:uFillTx/>
                <a:latin typeface="Verdana"/>
                <a:hlinkClick r:id="rId2"/>
              </a:rPr>
              <a:t>http://www.jochen.jochen-manns.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hteck 6"/>
          <p:cNvSpPr/>
          <p:nvPr/>
        </p:nvSpPr>
        <p:spPr>
          <a:xfrm>
            <a:off x="0" y="2571840"/>
            <a:ext cx="9144000" cy="1429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0099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Grafik 4" descr="Bild1.jpg"/>
          <p:cNvPicPr/>
          <p:nvPr/>
        </p:nvPicPr>
        <p:blipFill>
          <a:blip r:embed="rId3"/>
          <a:srcRect l="0" t="0" r="0" b="55965"/>
          <a:stretch/>
        </p:blipFill>
        <p:spPr>
          <a:xfrm>
            <a:off x="0" y="0"/>
            <a:ext cx="9144000" cy="26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Architektur 2003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14" name="AutoShape 4"/>
          <p:cNvSpPr/>
          <p:nvPr/>
        </p:nvSpPr>
        <p:spPr>
          <a:xfrm>
            <a:off x="3492360" y="2205000"/>
            <a:ext cx="4896000" cy="331308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5"/>
          <p:cNvSpPr/>
          <p:nvPr/>
        </p:nvSpPr>
        <p:spPr>
          <a:xfrm>
            <a:off x="395280" y="3500280"/>
            <a:ext cx="1943280" cy="914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6"/>
          <p:cNvSpPr/>
          <p:nvPr/>
        </p:nvSpPr>
        <p:spPr>
          <a:xfrm>
            <a:off x="4284720" y="2924280"/>
            <a:ext cx="1582560" cy="865080"/>
          </a:xfrm>
          <a:prstGeom prst="roundRect">
            <a:avLst>
              <a:gd name="adj" fmla="val 16667"/>
            </a:avLst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Sched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7"/>
          <p:cNvSpPr/>
          <p:nvPr/>
        </p:nvSpPr>
        <p:spPr>
          <a:xfrm>
            <a:off x="6156360" y="5805360"/>
            <a:ext cx="1727280" cy="71928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Aufzeichn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13"/>
          <p:cNvSpPr/>
          <p:nvPr/>
        </p:nvSpPr>
        <p:spPr>
          <a:xfrm>
            <a:off x="2411280" y="3860640"/>
            <a:ext cx="936720" cy="216000"/>
          </a:xfrm>
          <a:prstGeom prst="rightArrow">
            <a:avLst>
              <a:gd name="adj1" fmla="val 50000"/>
              <a:gd name="adj2" fmla="val 10841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4"/>
          <p:cNvSpPr/>
          <p:nvPr/>
        </p:nvSpPr>
        <p:spPr>
          <a:xfrm>
            <a:off x="2393640" y="3521160"/>
            <a:ext cx="8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O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16"/>
          <p:cNvSpPr/>
          <p:nvPr/>
        </p:nvSpPr>
        <p:spPr>
          <a:xfrm rot="16200000">
            <a:off x="5182920" y="3607920"/>
            <a:ext cx="2809800" cy="1441440"/>
          </a:xfrm>
          <a:prstGeom prst="pi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7"/>
          <p:cNvSpPr/>
          <p:nvPr/>
        </p:nvSpPr>
        <p:spPr>
          <a:xfrm>
            <a:off x="5437440" y="2205000"/>
            <a:ext cx="111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Dien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9"/>
          <p:cNvSpPr/>
          <p:nvPr/>
        </p:nvSpPr>
        <p:spPr>
          <a:xfrm>
            <a:off x="6444360" y="2924280"/>
            <a:ext cx="12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d In/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20"/>
          <p:cNvSpPr/>
          <p:nvPr/>
        </p:nvSpPr>
        <p:spPr>
          <a:xfrm>
            <a:off x="1908000" y="3645000"/>
            <a:ext cx="360360" cy="647640"/>
          </a:xfrm>
          <a:prstGeom prst="rect">
            <a:avLst/>
          </a:prstGeom>
          <a:solidFill>
            <a:srgbClr val="c0c0c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Mehr Ideen…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79280" y="1643040"/>
            <a:ext cx="87854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.NET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ASP.NET Ho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ASP.NET basierter SOAP Server (ASMX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000000"/>
                </a:solidFill>
                <a:latin typeface="Tahoma"/>
              </a:rPr>
              <a:t>Thin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 Client (ASPX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000000"/>
                </a:solidFill>
                <a:latin typeface="Tahoma"/>
              </a:rPr>
              <a:t>Fat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 Client macht eigentlich nicht vie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Viel Kommunikationsverlust, trä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Gros der (paar) Anwender haben Client =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344600" indent="-272880">
              <a:spcBef>
                <a:spcPts val="601"/>
              </a:spcBef>
              <a:buClr>
                <a:srgbClr val="f692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Dann kann auch der Dienst den Client mach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Tipp 3: Kompatibilität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79280" y="1643040"/>
            <a:ext cx="87854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Mal brechen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.NET 1.1 SOAP Remoting inkompatib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.NET 2.0 ASP.NET SOAP elega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lnSpc>
                <a:spcPct val="100000"/>
              </a:lnSpc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Remoting durch ASP.NET Hosting ersetz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…</a:t>
            </a: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aber wenn möglich anbiet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Ursprüngliche ASP.NET SOAP Schnittstell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Weiterentwicklu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344600" indent="-272880">
              <a:spcBef>
                <a:spcPts val="601"/>
              </a:spcBef>
              <a:buClr>
                <a:srgbClr val="f692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SOAPServer.asmx für alte Cli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344600" indent="-272880">
              <a:spcBef>
                <a:spcPts val="601"/>
              </a:spcBef>
              <a:buClr>
                <a:srgbClr val="f692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SOAPServer20.asmx für neue Cli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344600" indent="-272880">
              <a:spcBef>
                <a:spcPts val="601"/>
              </a:spcBef>
              <a:buClr>
                <a:srgbClr val="f692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Mehr Funktionalität in neuen Cli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ASP.NET Hosting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79280" y="1643040"/>
            <a:ext cx="87854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.NET 1.1 mühs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.NET 2.0 bess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Nicht für alle Windows Versionen mögli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Nicht ganz trivi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Kein vollständiger IIS (e.g. Dateizugriff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Nicht ganz fehlerfrei (e.g. Chunk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Ein bisschen Code drum herum notwendi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636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636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Exkurs: ASP.NET 2.0 Hosting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79280" y="1643040"/>
            <a:ext cx="87854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Anwendung übernimmt TCP/I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.NET 1.1 via Cassini (nie gemach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.NET 2.0 via HttpListener und Http.S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Eigene ASP.NET AppDomain(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MarshalByRefO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Http.Sy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Win2k+3 (kein Win2k), Win XP SP2, 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TCP/IP Port </a:t>
            </a:r>
            <a:r>
              <a:rPr b="0" i="1" lang="de-DE" sz="2800" spc="-1" strike="noStrike">
                <a:solidFill>
                  <a:srgbClr val="000000"/>
                </a:solidFill>
                <a:latin typeface="Tahoma"/>
              </a:rPr>
              <a:t>sha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IIS 5.1 nutzt das leider nic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Architektur 2006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33" name="AutoShape 3"/>
          <p:cNvSpPr/>
          <p:nvPr/>
        </p:nvSpPr>
        <p:spPr>
          <a:xfrm>
            <a:off x="3492360" y="2205000"/>
            <a:ext cx="4896000" cy="4464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4"/>
          <p:cNvSpPr/>
          <p:nvPr/>
        </p:nvSpPr>
        <p:spPr>
          <a:xfrm>
            <a:off x="395280" y="2637000"/>
            <a:ext cx="1943280" cy="9144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5"/>
          <p:cNvSpPr/>
          <p:nvPr/>
        </p:nvSpPr>
        <p:spPr>
          <a:xfrm>
            <a:off x="4284720" y="2924280"/>
            <a:ext cx="1582560" cy="720720"/>
          </a:xfrm>
          <a:prstGeom prst="roundRect">
            <a:avLst>
              <a:gd name="adj" fmla="val 16667"/>
            </a:avLst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6"/>
          <p:cNvSpPr/>
          <p:nvPr/>
        </p:nvSpPr>
        <p:spPr>
          <a:xfrm>
            <a:off x="6084720" y="1268280"/>
            <a:ext cx="1727280" cy="71928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Aufzeichn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7"/>
          <p:cNvSpPr/>
          <p:nvPr/>
        </p:nvSpPr>
        <p:spPr>
          <a:xfrm>
            <a:off x="2411280" y="2997360"/>
            <a:ext cx="936720" cy="215640"/>
          </a:xfrm>
          <a:prstGeom prst="rightArrow">
            <a:avLst>
              <a:gd name="adj1" fmla="val 50000"/>
              <a:gd name="adj2" fmla="val 108598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8"/>
          <p:cNvSpPr/>
          <p:nvPr/>
        </p:nvSpPr>
        <p:spPr>
          <a:xfrm>
            <a:off x="2393640" y="2657520"/>
            <a:ext cx="8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O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9"/>
          <p:cNvSpPr/>
          <p:nvPr/>
        </p:nvSpPr>
        <p:spPr>
          <a:xfrm flipV="1" rot="5400000">
            <a:off x="5759280" y="2168280"/>
            <a:ext cx="1512720" cy="1297080"/>
          </a:xfrm>
          <a:prstGeom prst="pi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0"/>
          <p:cNvSpPr/>
          <p:nvPr/>
        </p:nvSpPr>
        <p:spPr>
          <a:xfrm>
            <a:off x="5437440" y="2205000"/>
            <a:ext cx="111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Dien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1"/>
          <p:cNvSpPr/>
          <p:nvPr/>
        </p:nvSpPr>
        <p:spPr>
          <a:xfrm>
            <a:off x="6444360" y="3429000"/>
            <a:ext cx="12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d In/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2"/>
          <p:cNvSpPr/>
          <p:nvPr/>
        </p:nvSpPr>
        <p:spPr>
          <a:xfrm>
            <a:off x="4286880" y="3068640"/>
            <a:ext cx="153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Sched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13"/>
          <p:cNvSpPr/>
          <p:nvPr/>
        </p:nvSpPr>
        <p:spPr>
          <a:xfrm>
            <a:off x="4427640" y="3789360"/>
            <a:ext cx="1296720" cy="2232000"/>
          </a:xfrm>
          <a:custGeom>
            <a:avLst/>
            <a:gdLst>
              <a:gd name="textAreaLeft" fmla="*/ 63000 w 1296720"/>
              <a:gd name="textAreaRight" fmla="*/ 1233720 w 1296720"/>
              <a:gd name="textAreaTop" fmla="*/ 63000 h 2232000"/>
              <a:gd name="textAreaBottom" fmla="*/ 2169000 h 2232000"/>
            </a:gdLst>
            <a:ahLst/>
            <a:rect l="textAreaLeft" t="textAreaTop" r="textAreaRight" b="textAreaBottom"/>
            <a:pathLst>
              <a:path w="21600" h="37175">
                <a:moveTo>
                  <a:pt x="3600" y="0"/>
                </a:moveTo>
                <a:arcTo wR="3600" hR="3600" stAng="16200000" swAng="-5400000"/>
                <a:lnTo>
                  <a:pt x="0" y="33575"/>
                </a:lnTo>
                <a:arcTo wR="3600" hR="3600" stAng="10800000" swAng="-5400000"/>
                <a:lnTo>
                  <a:pt x="18000" y="3717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4"/>
          <p:cNvSpPr/>
          <p:nvPr/>
        </p:nvSpPr>
        <p:spPr>
          <a:xfrm>
            <a:off x="4501440" y="3932280"/>
            <a:ext cx="1177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SP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400" spc="-1" strike="noStrike">
                <a:solidFill>
                  <a:srgbClr val="000000"/>
                </a:solidFill>
                <a:latin typeface="Arial"/>
              </a:rPr>
              <a:t>AppDoma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15"/>
          <p:cNvSpPr/>
          <p:nvPr/>
        </p:nvSpPr>
        <p:spPr>
          <a:xfrm>
            <a:off x="4500720" y="4797360"/>
            <a:ext cx="1152360" cy="647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16"/>
          <p:cNvSpPr/>
          <p:nvPr/>
        </p:nvSpPr>
        <p:spPr>
          <a:xfrm>
            <a:off x="395280" y="4653000"/>
            <a:ext cx="1943280" cy="914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Brow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17"/>
          <p:cNvSpPr/>
          <p:nvPr/>
        </p:nvSpPr>
        <p:spPr>
          <a:xfrm>
            <a:off x="2411280" y="5013360"/>
            <a:ext cx="2016360" cy="216000"/>
          </a:xfrm>
          <a:prstGeom prst="rightArrow">
            <a:avLst>
              <a:gd name="adj1" fmla="val 50000"/>
              <a:gd name="adj2" fmla="val 233375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8"/>
          <p:cNvSpPr/>
          <p:nvPr/>
        </p:nvSpPr>
        <p:spPr>
          <a:xfrm>
            <a:off x="2341800" y="4653000"/>
            <a:ext cx="80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Architektur 2006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79280" y="1643040"/>
            <a:ext cx="87854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Windows Dien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Separate Aufzeichnungsprozes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ASP.NET Hosting in eigener </a:t>
            </a:r>
            <a:r>
              <a:rPr b="0" i="1" lang="de-DE" sz="2800" spc="-1" strike="noStrike">
                <a:solidFill>
                  <a:srgbClr val="000000"/>
                </a:solidFill>
                <a:latin typeface="Tahoma"/>
              </a:rPr>
              <a:t>App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ASP.NET SOAP (ASMX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ASP.NET </a:t>
            </a:r>
            <a:r>
              <a:rPr b="0" i="1" lang="de-DE" sz="2800" spc="-1" strike="noStrike">
                <a:solidFill>
                  <a:srgbClr val="000000"/>
                </a:solidFill>
                <a:latin typeface="Tahoma"/>
              </a:rPr>
              <a:t>Thin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 Client (ASPX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344600" indent="-272880">
              <a:spcBef>
                <a:spcPts val="601"/>
              </a:spcBef>
              <a:buClr>
                <a:srgbClr val="f692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Wesentlich performanter: weniger Kommunik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200" spc="-1" strike="noStrike">
                <a:solidFill>
                  <a:srgbClr val="000000"/>
                </a:solidFill>
                <a:latin typeface="Tahoma"/>
              </a:rPr>
              <a:t>Fat</a:t>
            </a: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 Clients für spezielle Aufgab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Überwachung des Diens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Integration mit Fremdanwendung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Tipp 4: Migrationsschiene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79280" y="1643040"/>
            <a:ext cx="87854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.NET 1.1 Remoting SOAP / </a:t>
            </a:r>
            <a:r>
              <a:rPr b="0" i="1" lang="de-DE" sz="3200" spc="-1" strike="noStrike">
                <a:solidFill>
                  <a:srgbClr val="000000"/>
                </a:solidFill>
                <a:latin typeface="Tahoma"/>
              </a:rPr>
              <a:t>Fat</a:t>
            </a: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 Client [-v2.6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Die ursprüngliche Id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ASP.NET SOAP / </a:t>
            </a:r>
            <a:r>
              <a:rPr b="0" i="1" lang="de-DE" sz="3200" spc="-1" strike="noStrike">
                <a:solidFill>
                  <a:srgbClr val="000000"/>
                </a:solidFill>
                <a:latin typeface="Tahoma"/>
              </a:rPr>
              <a:t>Fat</a:t>
            </a: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 Client [v2.7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Umstellung ASP.NET Hosting aufwändi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Lieber erst mal eine Baustel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ASP.NET SOAP / </a:t>
            </a:r>
            <a:r>
              <a:rPr b="0" i="1" lang="de-DE" sz="3200" spc="-1" strike="noStrike">
                <a:solidFill>
                  <a:srgbClr val="000000"/>
                </a:solidFill>
                <a:latin typeface="Tahoma"/>
              </a:rPr>
              <a:t>Thin</a:t>
            </a: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 Client [v3.0-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000000"/>
                </a:solidFill>
                <a:latin typeface="Tahoma"/>
              </a:rPr>
              <a:t>Fat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 Client würde weiterhin lauf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Client / Server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79280" y="1643040"/>
            <a:ext cx="87854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Server Host finden, e.g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Windows Service: beste Lebenszeitkontrol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IIS: beste ASP.NET Umgebu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Protokolle definieren, e.g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Transportschicht wie SOAP über HTT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Dedizierte, stabile Schnittstell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344600" indent="-272880">
              <a:spcBef>
                <a:spcPts val="601"/>
              </a:spcBef>
              <a:buClr>
                <a:srgbClr val="f692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Eine ASMX </a:t>
            </a: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ist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eine Schnittstelle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Client konzipieren, e.g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000000"/>
                </a:solidFill>
                <a:latin typeface="Tahoma"/>
              </a:rPr>
              <a:t>Fat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 vs. </a:t>
            </a:r>
            <a:r>
              <a:rPr b="0" i="1" lang="de-DE" sz="2800" spc="-1" strike="noStrike">
                <a:solidFill>
                  <a:srgbClr val="000000"/>
                </a:solidFill>
                <a:latin typeface="Tahoma"/>
              </a:rPr>
              <a:t>Thin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 und alles dazwisch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Fallstricke – ein Auszug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79280" y="1643040"/>
            <a:ext cx="87854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2440" indent="-35244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P/Invoke und MFC Extension D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65080" indent="-33840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C# Klasse von C++ Klasse ableit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65080" indent="-33840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Virtuelle Funktion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52440" indent="-35244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COM InterOp Generat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65080" indent="-33840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Signaturen und PreservSi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52440" indent="-35244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OnPowerEvent .NET 1.1 vs. .NET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52440" indent="-35244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ASP.NET AppDomain Resta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65080" indent="-33840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ASP.NET und Exce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65080" indent="-33840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InitializeLifetimeService gegen spotanes Sterb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Agenda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79280" y="1643040"/>
            <a:ext cx="87854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Problemstellu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Kurze Übersic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Fachliches Problem ist hier </a:t>
            </a:r>
            <a:r>
              <a:rPr b="1" lang="de-DE" sz="2800" spc="-1" strike="noStrike">
                <a:solidFill>
                  <a:srgbClr val="000000"/>
                </a:solidFill>
                <a:latin typeface="Tahoma"/>
              </a:rPr>
              <a:t>nicht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 das The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Client / Server Architektu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Anforderungen an den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Konsequenzen für den Cl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Historische Entwicklu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Ein paar Fallstrick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636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Exkurs: OnPowerEvent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79280" y="1643040"/>
            <a:ext cx="87854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6040" indent="-35604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Schlafzustand (StandBy / Hibernat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74080" indent="-34200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Protokoll beim Schlafengehen mit Ve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74080" indent="-34200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Protokoll beim Aufwach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56040" indent="-35604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.NET 1.1 ServiceBa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74080" indent="-34200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Volle Protokollunterstützu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74080" indent="-34200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Veto mögli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74080" indent="-34200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Ordnung erhalt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56040" indent="-35604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.NET 2.0 ServiceBas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74080" indent="-34200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Kein Veto, indeterministische Aufrufreihenfol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" name="Picture 4" descr="j0286034"/>
          <p:cNvPicPr/>
          <p:nvPr/>
        </p:nvPicPr>
        <p:blipFill>
          <a:blip r:embed="rId1"/>
          <a:stretch/>
        </p:blipFill>
        <p:spPr>
          <a:xfrm>
            <a:off x="4643280" y="5445000"/>
            <a:ext cx="505080" cy="4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Am Ende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79280" y="1643040"/>
            <a:ext cx="87854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spcBef>
                <a:spcPts val="4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BLo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4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ttp://www.jochen.jochen-manns.de/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4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VCR.NE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4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ttp://www.psimarron.net/VCRNET/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4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ttp://www.psimarron.net/DVBNET/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4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For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4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ttp://www.highpaqnet.de/Forum/index.php?showforum=38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Problemstellung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79280" y="1643040"/>
            <a:ext cx="87854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lnSpc>
                <a:spcPct val="90000"/>
              </a:lnSpc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DVB-S PCI Karte 2003 gekauf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lnSpc>
                <a:spcPct val="90000"/>
              </a:lnSpc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Für Aufzeichnungen auf dem P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lnSpc>
                <a:spcPct val="90000"/>
              </a:lnSpc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Fernsehen / Radio absolut nebensächli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lnSpc>
                <a:spcPct val="90000"/>
              </a:lnSpc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Mankos vorhandener Anwendung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lnSpc>
                <a:spcPct val="90000"/>
              </a:lnSpc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Vom Hersteller oder ande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lnSpc>
                <a:spcPct val="90000"/>
              </a:lnSpc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Anwender muss angemeldet se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lnSpc>
                <a:spcPct val="90000"/>
              </a:lnSpc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Anwendung muss lauf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lnSpc>
                <a:spcPct val="90000"/>
              </a:lnSpc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Windows Task Scheduler verwend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lnSpc>
                <a:spcPct val="90000"/>
              </a:lnSpc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Heute etwas bess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Idee für den Server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79280" y="1643040"/>
            <a:ext cx="87854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lnSpc>
                <a:spcPct val="90000"/>
              </a:lnSpc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Windows Dien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lnSpc>
                <a:spcPct val="90000"/>
              </a:lnSpc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Auta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lnSpc>
                <a:spcPct val="90000"/>
              </a:lnSpc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Zugriff auf die Hardware ohne Anw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lnSpc>
                <a:spcPct val="90000"/>
              </a:lnSpc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Schlafzustand und Aufwach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lnSpc>
                <a:spcPct val="90000"/>
              </a:lnSpc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Kein Task Schedu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lnSpc>
                <a:spcPct val="90000"/>
              </a:lnSpc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C# / .N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lnSpc>
                <a:spcPct val="90000"/>
              </a:lnSpc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Problem DVB Schnittstell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lnSpc>
                <a:spcPct val="90000"/>
              </a:lnSpc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(Sehr) properitär (MFC Extension DL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lnSpc>
                <a:spcPct val="90000"/>
              </a:lnSpc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COM basiert (Microsoft BD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Tipp 1: Faktorisierung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79280" y="1643040"/>
            <a:ext cx="87854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Eigenständige DVB Bibliothe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Ausschließlich Zugriff auf die Hard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Unabhängige Entwicklu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Unabhängige 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Windows Dienst nutzt die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Kümmert sich um die Zeitplanu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Verwaltet den Schlafzust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Unabhängig von der Hard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Aufzeichnungsprozess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79280" y="1643040"/>
            <a:ext cx="87854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DVB Hardware manchmal zicki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Jede Aufzeichnung in eigenem Proz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Vom Windows Dienst gestart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Kommunikation über Standard In /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Binäre Serialisieru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344600" indent="-272880">
              <a:spcBef>
                <a:spcPts val="601"/>
              </a:spcBef>
              <a:buClr>
                <a:srgbClr val="f692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Befehlsobjekte Dienst </a:t>
            </a:r>
            <a:r>
              <a:rPr b="0" lang="de-DE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Proz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344600" indent="-272880">
              <a:spcBef>
                <a:spcPts val="601"/>
              </a:spcBef>
              <a:buClr>
                <a:srgbClr val="f692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Antwortobjekte Prozess </a:t>
            </a:r>
            <a:r>
              <a:rPr b="0" lang="de-DE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Dien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Überwachung des Lebenszykl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Idee für den Client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79280" y="1643040"/>
            <a:ext cx="87854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SOAP Zugrif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Damals .NET 1.1 Remo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Also ein </a:t>
            </a:r>
            <a:r>
              <a:rPr b="0" i="1" lang="de-DE" sz="3200" spc="-1" strike="noStrike">
                <a:solidFill>
                  <a:srgbClr val="000000"/>
                </a:solidFill>
                <a:latin typeface="Tahoma"/>
              </a:rPr>
              <a:t>Fat</a:t>
            </a: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 Cli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Standard </a:t>
            </a:r>
            <a:r>
              <a:rPr b="0" i="1" lang="de-DE" sz="2800" spc="-1" strike="noStrike">
                <a:solidFill>
                  <a:srgbClr val="000000"/>
                </a:solidFill>
                <a:latin typeface="Tahoma"/>
              </a:rPr>
              <a:t>System.Windows.Forms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 Cl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Konventionelle Technik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Windows Dienst als SOAP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000000"/>
                </a:solidFill>
                <a:latin typeface="Tahoma"/>
              </a:rPr>
              <a:t>Remoting 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Erweiterungen zum Zugriffsschut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Tipp 2: SOAP Proxies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79280" y="1643040"/>
            <a:ext cx="87854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lnSpc>
                <a:spcPct val="90000"/>
              </a:lnSpc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Web Reference auf unterster Eben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lnSpc>
                <a:spcPct val="90000"/>
              </a:lnSpc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Einfach erzeug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lnSpc>
                <a:spcPct val="90000"/>
              </a:lnSpc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Schwache Implementieru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344600" indent="-272880">
              <a:lnSpc>
                <a:spcPct val="90000"/>
              </a:lnSpc>
              <a:spcBef>
                <a:spcPts val="601"/>
              </a:spcBef>
              <a:buClr>
                <a:srgbClr val="f692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Nahe am Netzwerkprotoko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344600" indent="-272880">
              <a:lnSpc>
                <a:spcPct val="90000"/>
              </a:lnSpc>
              <a:spcBef>
                <a:spcPts val="601"/>
              </a:spcBef>
              <a:buClr>
                <a:srgbClr val="f692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Keine Semantik der Datenstruktur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lnSpc>
                <a:spcPct val="90000"/>
              </a:lnSpc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Proxy Assemb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lnSpc>
                <a:spcPct val="90000"/>
              </a:lnSpc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Kapselt die Web Re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lnSpc>
                <a:spcPct val="90000"/>
              </a:lnSpc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Fügt Semantik hinz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344600" indent="-272880">
              <a:lnSpc>
                <a:spcPct val="90000"/>
              </a:lnSpc>
              <a:spcBef>
                <a:spcPts val="601"/>
              </a:spcBef>
              <a:buClr>
                <a:srgbClr val="f692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Array </a:t>
            </a:r>
            <a:r>
              <a:rPr b="0" lang="de-DE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Methoden Add und Remo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344600" indent="-272880">
              <a:lnSpc>
                <a:spcPct val="90000"/>
              </a:lnSpc>
              <a:spcBef>
                <a:spcPts val="601"/>
              </a:spcBef>
              <a:buClr>
                <a:srgbClr val="f692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GMT / UTC Zeiten </a:t>
            </a:r>
            <a:r>
              <a:rPr b="0" lang="de-DE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lokale Zeit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344600" indent="-272880">
              <a:lnSpc>
                <a:spcPct val="90000"/>
              </a:lnSpc>
              <a:spcBef>
                <a:spcPts val="601"/>
              </a:spcBef>
              <a:buClr>
                <a:srgbClr val="f692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Architektur 2003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79280" y="1643040"/>
            <a:ext cx="87854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Windows Dien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SOAP Schnittstelle zum Cl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Bibliothek zum Zugriff auf die Hard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Algorithmus für Planung von Aufzeichnung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Aufzeichnungsproz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Vom Windows Dienst gestart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Binäre Serialisierung zur Kommunik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200" spc="-1" strike="noStrike">
                <a:solidFill>
                  <a:srgbClr val="000000"/>
                </a:solidFill>
                <a:latin typeface="Tahoma"/>
              </a:rPr>
              <a:t>System.Windows.Forms</a:t>
            </a: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 Cli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Dedizierter SOAP Prox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0T13:05:59Z</dcterms:created>
  <dc:creator>Dr. Jochen Manns</dc:creator>
  <dc:description/>
  <dc:language>en-US</dc:language>
  <cp:lastModifiedBy>Roland Weigelt</cp:lastModifiedBy>
  <dcterms:modified xsi:type="dcterms:W3CDTF">2007-04-22T12:06:17Z</dcterms:modified>
  <cp:revision>52</cp:revision>
  <dc:subject/>
  <dc:title>Folie 1</dc:title>
</cp:coreProperties>
</file>