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B19DF-4F95-4281-8506-F383F2601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2E99-0E91-4D90-A5E1-CA1E665C0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06F7C-D8A0-4FC7-8F77-BF216D640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CA7C-EF1B-4818-A671-8387FED7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D8D6D-789E-47FA-B358-9B5FC0379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1DF52-83FE-43EF-BF22-CA562F26E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BF8C-05E7-49A0-87FE-3B423AA1C0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1779-5D0C-478F-AC37-CFFBA18A3B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2837-2A98-4827-BBE8-3861A4076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23F8-94F8-4A37-8D26-E6121CA7A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D4096-46E7-4258-946F-B419573D1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A258B-9EE8-4CF9-BB4E-706947448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39EB-36A3-4BE1-A51C-A8FBBE82D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A29C3-EF20-402F-82FF-2BB7701C93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81A01-9AFB-48FF-A2EF-D0BE34FA60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59B0-EC6D-41A8-96BD-8FD9D9BEF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Text Box 19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4FD2-1435-4DE9-A86E-3AB81B2B9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1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2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3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randyrants.com/2007/02/vista_tip_eleva.html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hellrevealed.com/blogs/shellblog/archive/2006/10/16/Do-things-faster-with-Keyboard-Shortcuts.aspx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hanselman.com/blog/MoreOnVistaReparsePoints.aspx" TargetMode="External"/><Relationship Id="rId2" Type="http://schemas.openxmlformats.org/officeDocument/2006/relationships/hyperlink" Target="http://www.hanselman.com/blog/WindowsVistaJunctionsAndMovingMyDocumentsToAnotherDrive.aspx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sdn2.microsoft.com/en-us/library/aa965711.aspx" TargetMode="External"/><Relationship Id="rId2" Type="http://schemas.openxmlformats.org/officeDocument/2006/relationships/hyperlink" Target="http://blogs.msdn.com/cheller/archive/2006/12/05/advanced-query-syntax-what-where-why-and-how.aspx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ta in der Praxi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27.02.2007 –  Jens Schall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contact@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jens-schall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ta – Desktop Composi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ies und Da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gramme schnell mit Administrator Rechten star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gramm über Startmenü such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trl+Shift+Enter startet Programm mit Administrator Rech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rweiterter Task-Manag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tzt mit Services-Tab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500120" y="2928960"/>
            <a:ext cx="6100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ntrol Panel - Sehenswer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ontrol Panel -&gt; System and Maintenance -&gt; Performance Information and Tool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5214960" y="3000240"/>
            <a:ext cx="255744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fad der aktuellen Datei kopier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indows Explor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hift+Rechtsklic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uf Ordner oder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Copy as Pat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Command Prompt Her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m Windows Explor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hift+Rechtklick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auf einen Ordner (nur im rechten Fensterbereic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 Kontextmenü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Command Prompt here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Elevated Command Prompt Here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Nicht „ab Werk“, aber durch einfaches REG-File mögli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randyrants.com/2007/02/vista_tip_eleva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286160" y="3929040"/>
            <a:ext cx="3872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nipping Tool – für Screensho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Zum Erstellen von Screensho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eichern im gif, jpg, png, mht Format oder über die Zwischenabl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odi: Fullscreen, Fenster, Rechteckiger Ausschnitt, Frei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Ist i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Tablet PC Optional Components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enthalt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428920" y="4500720"/>
            <a:ext cx="42861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dows Mobility Cen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ür Notebook Besitzer sehr interessa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fruf mit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Win+X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1803240" y="3214800"/>
            <a:ext cx="5483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führ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ipps, Tipps, Tipp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az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ie wichtigsten Vista Shortcut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5072040"/>
            <a:ext cx="8229600" cy="15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usführliche Liste: 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shellrevealed.com/blogs/shellblog/archive/2006/10/16/Do-things-faster-with-Keyboard-Shortcuts.asp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628640"/>
          <a:ext cx="8229600" cy="2941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+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stant Search box wäh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T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ip 3D st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rl+Shift+En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gramm im Startmenü mit administrativen Rechten star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rtet Eintrag aus QuickLaunch Toolbar mit entsprechender Position.</a:t>
                      </a:r>
                      <a:br>
                        <a:rPr sz="1800"/>
                      </a:b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ispiel: Win+2 würde Outlook starten</a:t>
                      </a: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+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ndows Mobility Center öffn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  <p:pic>
        <p:nvPicPr>
          <p:cNvPr id="213" name="Picture 2" descr=""/>
          <p:cNvPicPr/>
          <p:nvPr/>
        </p:nvPicPr>
        <p:blipFill>
          <a:blip r:embed="rId2"/>
          <a:stretch/>
        </p:blipFill>
        <p:spPr>
          <a:xfrm>
            <a:off x="4643280" y="3929040"/>
            <a:ext cx="107172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Sämtliche Benutzerordner liegen unter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c:\users\&lt;Benutzername&gt;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Im Explorer wird unterhalb vom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Desktop  </a:t>
            </a: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Ordner ein Ordner </a:t>
            </a:r>
            <a:r>
              <a:rPr b="1" i="1" lang="de-DE" sz="2200" spc="-1" strike="noStrike">
                <a:solidFill>
                  <a:srgbClr val="000000"/>
                </a:solidFill>
                <a:latin typeface="Tahoma"/>
              </a:rPr>
              <a:t>Benutzername </a:t>
            </a: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angezeigt. Hier befinden sich Links auf sämtliche Benutzerordn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Alle Benutzerorder liegen in englischer Sprache vo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Explorer deutscht Ordnernamen über </a:t>
            </a:r>
            <a:r>
              <a:rPr b="0" i="1" lang="de-DE" sz="2200" spc="-1" strike="noStrike">
                <a:solidFill>
                  <a:srgbClr val="000000"/>
                </a:solidFill>
                <a:latin typeface="Tahoma"/>
              </a:rPr>
              <a:t>Desktop.ini</a:t>
            </a: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  ei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lnSpc>
                <a:spcPct val="90000"/>
              </a:lnSpc>
              <a:spcBef>
                <a:spcPts val="476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000000"/>
                </a:solidFill>
                <a:latin typeface="Tahoma"/>
              </a:rPr>
              <a:t>Das funktioniert auch mit Dateien! -&gt; Ein Angriffspunkt für Vire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Es wird massiv mit Symbolic Links gearbeite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=&gt; Verschieben über Registry Hacks gefährlich!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326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Mehr Infos: </a:t>
            </a:r>
            <a:br>
              <a:rPr sz="2200"/>
            </a:br>
            <a:r>
              <a:rPr b="0" lang="de-DE" sz="13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www.hanselman.com/blog/MoreOnVistaReparsePoints.aspx</a:t>
            </a:r>
            <a:br>
              <a:rPr sz="1300"/>
            </a:br>
            <a:r>
              <a:rPr b="0" lang="de-DE" sz="13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www.hanselman.com/blog/WindowsVistaJunctionsAndMovingMyDocumentsToAnotherDrive.aspx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Um Benutzerordner zu verschieben sind keine extra Tools mehr nöti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 Ordner verschiebt man wie folgt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Rechtsklick auf Benutzerordner -&gt;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Proper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Location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Tab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Move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klicken und Zielort wäh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enutzerordner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o sind die StartMenu, SendTo, etc. Ordner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C:\Users\&lt;username&gt;\AppData\Roaming\Microsoft\Wind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chtig: Um den AppData Ordner zu sehen muss die Optio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Show hidden files and folders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 im Explorer gewähl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indows Explor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lt+T (Tools Menü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Folder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View Ta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chnellerer Weg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Shell:sendto im Schnellsuchfeld eingeben (Vista Butt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2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2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ies und Da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Teil 2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in UAC Elevation Prompt für Standard-User (1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Als Standard-User kann es lästig sein, für Programme die Administrator Rechte benötigen ständig das UAC Elevation Prompt zu seh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ieses Verhalten kann jedoch abgeschalte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er Bildschirm wird nicht mehr abgedunke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s Elevation Prompt erscheint nicht meh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Kein UAC Elevation Prompt für Standard-User (2)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Folgende Schritte sind notwendig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ocal Security Policy (secpol.msc) öff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Unt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ecurity Settings -&gt; Local Policies -&gt; Security Option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de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Eintra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ser Account Control: Behavior of the elevation prompt for standard us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öff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mpt for credentia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u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omatically deny elevation reques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m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Backup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ackup and Restore Cent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ntweder Datei basiert oder Erstellung eines kompletten 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mage wird als .vhd Datei gespeichert und kann unter VirtualPC gemounte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ooten des Image unter VirtualPC funktioniert nicht, aber es gibt bereits Leute die daran „arbeiten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ücklesen kann entweder aus dem laufenden System erfolgen oder über die Vista Install-DVD (Recovery Modu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reencast dazu: </a:t>
            </a: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http://channel9.msdn.com/ShowPost.aspx?PostID=229767#22976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Profile für Spracherkennung auf anderen PC übertrag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tart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Easy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eingeb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indows Easy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start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tart a new transfer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My Old Comput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rt des Transfers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uf der Seite „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hat do you want to transfer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Advanced Options 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Alle Einträge ab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Knoten mit dem eigenen Benutzernam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Windows Settings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not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ound and Speech Recognitio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Knoten aufklapp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Den Knoten </a:t>
            </a:r>
            <a:r>
              <a:rPr b="1" i="1" lang="de-DE" sz="2000" spc="-1" strike="noStrike">
                <a:solidFill>
                  <a:srgbClr val="000000"/>
                </a:solidFill>
                <a:latin typeface="Tahoma"/>
              </a:rPr>
              <a:t>Speech Recognition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 auswähle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Next &amp; Ferti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1440" y="466200"/>
            <a:ext cx="8229600" cy="103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Windows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187440" y="3262320"/>
            <a:ext cx="759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308240" y="1960560"/>
            <a:ext cx="2492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Network Access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85640" y="3162240"/>
            <a:ext cx="265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Network Location Awar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46880" y="2854440"/>
            <a:ext cx="2341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High Resolution/High D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4544280" y="5931000"/>
            <a:ext cx="1846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Sides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692440" y="4119480"/>
            <a:ext cx="3257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Vista Display Driver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352480" y="3341520"/>
            <a:ext cx="1512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eople Near 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5073480" y="5411880"/>
            <a:ext cx="17866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Defen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2114280" y="3602160"/>
            <a:ext cx="18568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ower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7926120" y="3693960"/>
            <a:ext cx="1056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Live Ic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419960" y="1830240"/>
            <a:ext cx="1689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Side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7507800" y="2595600"/>
            <a:ext cx="167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arental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4695480" y="1890720"/>
            <a:ext cx="2620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Feedback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4725720" y="4627440"/>
            <a:ext cx="23994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Desktop Window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5258160" y="3097080"/>
            <a:ext cx="3112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gistry/File System Virtu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313200" y="2529000"/>
            <a:ext cx="1739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Protected Mode 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9"/>
          <p:cNvSpPr/>
          <p:nvPr/>
        </p:nvSpPr>
        <p:spPr>
          <a:xfrm>
            <a:off x="5274000" y="3627360"/>
            <a:ext cx="2580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Service Hard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3512160" y="1752480"/>
            <a:ext cx="1224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Sync Cen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3025080" y="1544760"/>
            <a:ext cx="5904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A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250000" y="2550960"/>
            <a:ext cx="201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resentation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52440" y="3994200"/>
            <a:ext cx="1335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Preview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694800" y="1617840"/>
            <a:ext cx="2273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Account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-5760" y="2220840"/>
            <a:ext cx="2370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Ad-hoc Meeting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7002000" y="3395520"/>
            <a:ext cx="1325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Quick Sear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4458600" y="2511360"/>
            <a:ext cx="2352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Imaging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3011400" y="4386240"/>
            <a:ext cx="27576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Resource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0"/>
          <p:cNvSpPr/>
          <p:nvPr/>
        </p:nvSpPr>
        <p:spPr>
          <a:xfrm>
            <a:off x="8273520" y="2971800"/>
            <a:ext cx="907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MC 3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2663640" y="2916360"/>
            <a:ext cx="1414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ancelable I/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3254400" y="6126120"/>
            <a:ext cx="3063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source Exhaustion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3"/>
          <p:cNvSpPr/>
          <p:nvPr/>
        </p:nvSpPr>
        <p:spPr>
          <a:xfrm>
            <a:off x="5098680" y="3916440"/>
            <a:ext cx="2849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Peer Name Resolution Protoc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7023240" y="2351160"/>
            <a:ext cx="1361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Reading 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133200" y="6515280"/>
            <a:ext cx="2451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Disk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6"/>
          <p:cNvSpPr/>
          <p:nvPr/>
        </p:nvSpPr>
        <p:spPr>
          <a:xfrm>
            <a:off x="6099840" y="1620720"/>
            <a:ext cx="158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start Mana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7"/>
          <p:cNvSpPr/>
          <p:nvPr/>
        </p:nvSpPr>
        <p:spPr>
          <a:xfrm>
            <a:off x="5840280" y="4238640"/>
            <a:ext cx="210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actional Regis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8"/>
          <p:cNvSpPr/>
          <p:nvPr/>
        </p:nvSpPr>
        <p:spPr>
          <a:xfrm>
            <a:off x="1948680" y="3398760"/>
            <a:ext cx="1305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ingle bin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9"/>
          <p:cNvSpPr/>
          <p:nvPr/>
        </p:nvSpPr>
        <p:spPr>
          <a:xfrm>
            <a:off x="2886120" y="4708440"/>
            <a:ext cx="1927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emory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7102800" y="4681440"/>
            <a:ext cx="2047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tartup Repair 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6461280" y="5821200"/>
            <a:ext cx="2385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Transactional File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2"/>
          <p:cNvSpPr/>
          <p:nvPr/>
        </p:nvSpPr>
        <p:spPr>
          <a:xfrm>
            <a:off x="513000" y="5956200"/>
            <a:ext cx="26982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Eventing and Instru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3"/>
          <p:cNvSpPr/>
          <p:nvPr/>
        </p:nvSpPr>
        <p:spPr>
          <a:xfrm>
            <a:off x="4209480" y="1494000"/>
            <a:ext cx="1617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S-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4"/>
          <p:cNvSpPr/>
          <p:nvPr/>
        </p:nvSpPr>
        <p:spPr>
          <a:xfrm>
            <a:off x="3817800" y="5583240"/>
            <a:ext cx="916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Info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5"/>
          <p:cNvSpPr/>
          <p:nvPr/>
        </p:nvSpPr>
        <p:spPr>
          <a:xfrm>
            <a:off x="2988720" y="3843360"/>
            <a:ext cx="11635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uperFe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6"/>
          <p:cNvSpPr/>
          <p:nvPr/>
        </p:nvSpPr>
        <p:spPr>
          <a:xfrm>
            <a:off x="6762600" y="5580000"/>
            <a:ext cx="13813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egoe UI Fo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7"/>
          <p:cNvSpPr/>
          <p:nvPr/>
        </p:nvSpPr>
        <p:spPr>
          <a:xfrm>
            <a:off x="5941800" y="5165640"/>
            <a:ext cx="7290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Flip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8"/>
          <p:cNvSpPr/>
          <p:nvPr/>
        </p:nvSpPr>
        <p:spPr>
          <a:xfrm>
            <a:off x="6848280" y="6081840"/>
            <a:ext cx="1424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New Explor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9"/>
          <p:cNvSpPr/>
          <p:nvPr/>
        </p:nvSpPr>
        <p:spPr>
          <a:xfrm>
            <a:off x="1074960" y="4500720"/>
            <a:ext cx="19162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Taskbar Thumbnai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0"/>
          <p:cNvSpPr/>
          <p:nvPr/>
        </p:nvSpPr>
        <p:spPr>
          <a:xfrm>
            <a:off x="8379000" y="3311640"/>
            <a:ext cx="5522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1"/>
          <p:cNvSpPr/>
          <p:nvPr/>
        </p:nvSpPr>
        <p:spPr>
          <a:xfrm>
            <a:off x="3674880" y="5886360"/>
            <a:ext cx="687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XA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2"/>
          <p:cNvSpPr/>
          <p:nvPr/>
        </p:nvSpPr>
        <p:spPr>
          <a:xfrm>
            <a:off x="7194240" y="4437000"/>
            <a:ext cx="14727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Search Fol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3"/>
          <p:cNvSpPr/>
          <p:nvPr/>
        </p:nvSpPr>
        <p:spPr>
          <a:xfrm>
            <a:off x="6730200" y="2119320"/>
            <a:ext cx="12258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Ink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4"/>
          <p:cNvSpPr/>
          <p:nvPr/>
        </p:nvSpPr>
        <p:spPr>
          <a:xfrm>
            <a:off x="7903800" y="4071960"/>
            <a:ext cx="1244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lit Toke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5"/>
          <p:cNvSpPr/>
          <p:nvPr/>
        </p:nvSpPr>
        <p:spPr>
          <a:xfrm>
            <a:off x="-7200" y="5492880"/>
            <a:ext cx="2521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andatory Integrity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7045920" y="6629400"/>
            <a:ext cx="194220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I Privilege Iso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7"/>
          <p:cNvSpPr/>
          <p:nvPr/>
        </p:nvSpPr>
        <p:spPr>
          <a:xfrm>
            <a:off x="2419200" y="2316240"/>
            <a:ext cx="1452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ecure Start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8"/>
          <p:cNvSpPr/>
          <p:nvPr/>
        </p:nvSpPr>
        <p:spPr>
          <a:xfrm>
            <a:off x="3418560" y="5040360"/>
            <a:ext cx="2494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Filtering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9"/>
          <p:cNvSpPr/>
          <p:nvPr/>
        </p:nvSpPr>
        <p:spPr>
          <a:xfrm>
            <a:off x="292680" y="4761000"/>
            <a:ext cx="26629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User Mode Driver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1369080" y="5711760"/>
            <a:ext cx="22150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New Open/Save Dialo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-5400" y="3513240"/>
            <a:ext cx="20793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Shell Proper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424440" y="4264200"/>
            <a:ext cx="22928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logon Rearchite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5038200" y="2798640"/>
            <a:ext cx="33764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Communic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3692880" y="2168640"/>
            <a:ext cx="31111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ndows Presentation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2214000" y="3898800"/>
            <a:ext cx="67104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6"/>
          <p:cNvSpPr/>
          <p:nvPr/>
        </p:nvSpPr>
        <p:spPr>
          <a:xfrm>
            <a:off x="2594160" y="5308560"/>
            <a:ext cx="2571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Open Package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7"/>
          <p:cNvSpPr/>
          <p:nvPr/>
        </p:nvSpPr>
        <p:spPr>
          <a:xfrm>
            <a:off x="84240" y="6208560"/>
            <a:ext cx="2265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XML Paper Spec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8"/>
          <p:cNvSpPr/>
          <p:nvPr/>
        </p:nvSpPr>
        <p:spPr>
          <a:xfrm>
            <a:off x="5824440" y="4919760"/>
            <a:ext cx="28339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Windows Workflow Found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9"/>
          <p:cNvSpPr/>
          <p:nvPr/>
        </p:nvSpPr>
        <p:spPr>
          <a:xfrm>
            <a:off x="451800" y="5211720"/>
            <a:ext cx="2000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indows Installer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0"/>
          <p:cNvSpPr/>
          <p:nvPr/>
        </p:nvSpPr>
        <p:spPr>
          <a:xfrm>
            <a:off x="329040" y="1908000"/>
            <a:ext cx="75672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on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1"/>
          <p:cNvSpPr/>
          <p:nvPr/>
        </p:nvSpPr>
        <p:spPr>
          <a:xfrm>
            <a:off x="7838640" y="5361120"/>
            <a:ext cx="13251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RSS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2"/>
          <p:cNvSpPr/>
          <p:nvPr/>
        </p:nvSpPr>
        <p:spPr>
          <a:xfrm>
            <a:off x="1254960" y="4941720"/>
            <a:ext cx="2184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33"/>
                </a:solidFill>
                <a:latin typeface="Arial"/>
              </a:rPr>
              <a:t>Function Discovery 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3"/>
          <p:cNvSpPr/>
          <p:nvPr/>
        </p:nvSpPr>
        <p:spPr>
          <a:xfrm>
            <a:off x="4820400" y="5668920"/>
            <a:ext cx="17715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ecff"/>
                </a:solidFill>
                <a:latin typeface="Arial"/>
              </a:rPr>
              <a:t>Wizard Frame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4"/>
          <p:cNvSpPr/>
          <p:nvPr/>
        </p:nvSpPr>
        <p:spPr>
          <a:xfrm>
            <a:off x="42120" y="3757680"/>
            <a:ext cx="218448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rypto Nex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5"/>
          <p:cNvSpPr/>
          <p:nvPr/>
        </p:nvSpPr>
        <p:spPr>
          <a:xfrm>
            <a:off x="6944760" y="5145120"/>
            <a:ext cx="1929960" cy="2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redential Provid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Form 954370" descr=""/>
          <p:cNvPicPr/>
          <p:nvPr/>
        </p:nvPicPr>
        <p:blipFill>
          <a:blip r:embed="rId1"/>
          <a:stretch/>
        </p:blipFill>
        <p:spPr>
          <a:xfrm>
            <a:off x="2916360" y="2708280"/>
            <a:ext cx="3257280" cy="1481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4"/>
          <p:cNvSpPr/>
          <p:nvPr/>
        </p:nvSpPr>
        <p:spPr>
          <a:xfrm>
            <a:off x="2840760" y="6477120"/>
            <a:ext cx="3219480" cy="300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fident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 |  </a:t>
            </a:r>
            <a:r>
              <a:rPr b="1" lang="en-US" sz="1600" spc="-1" strike="noStrike">
                <a:solidFill>
                  <a:srgbClr val="ccecff"/>
                </a:solidFill>
                <a:latin typeface="Arial"/>
              </a:rPr>
              <a:t>Clear</a:t>
            </a:r>
            <a:r>
              <a:rPr b="1" lang="en-US" sz="1600" spc="-1" strike="noStrike">
                <a:solidFill>
                  <a:srgbClr val="bbe0e3"/>
                </a:solidFill>
                <a:latin typeface="Segoe U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egoe UI"/>
              </a:rPr>
              <a:t>|  </a:t>
            </a:r>
            <a:r>
              <a:rPr b="1" lang="en-US" sz="1600" spc="-1" strike="noStrike">
                <a:solidFill>
                  <a:srgbClr val="99ff33"/>
                </a:solidFill>
                <a:latin typeface="Arial"/>
              </a:rPr>
              <a:t>Conn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8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2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40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6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8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32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4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6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8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2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4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6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8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2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4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6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2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64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6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68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0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2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4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76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78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82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6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92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94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960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9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2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4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6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8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12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14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18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22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24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6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28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320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34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36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8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4200"/>
                            </p:stCondLst>
                            <p:childTnLst>
                              <p:par>
                                <p:cTn id="2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Fazi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Vista ist kein bahnbrechendes System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Features wie „Voll skalierbare Oberflächen“ und „WinFS“ fehl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Tahoma"/>
              </a:rPr>
              <a:t>Vista ist ein sehr gut abgerundetes X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tylisches Interfa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Coole Performance Tool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ehr gut nutzbares Backup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 Sicherhe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Schnelle und einfache Suchmöglichkeite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s Wireless Network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r Notebook Suppor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Besseres Window Management dank DWM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lnSpc>
                <a:spcPct val="90000"/>
              </a:lnSpc>
              <a:spcBef>
                <a:spcPts val="55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Tahoma"/>
              </a:rPr>
              <a:t>Verbesserte Stabilitä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Link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ting A Bootable WinPE 2.0 USB Key</a:t>
            </a:r>
            <a:br>
              <a:rPr sz="2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http://windowsconnected.com/blogs/joshs_blog/archive/2007/02/05/creating-a-bootable-winpe-2-0-usb-key.asp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Best-Buy Vista Videos</a:t>
            </a:r>
            <a:br>
              <a:rPr sz="2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asier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nhanced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entertain.wvx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Tahoma"/>
              </a:rPr>
              <a:t>http://images.bestbuy.com/BestBuy_US/en_US/images/computers/features/windowsvista/vid_mobile.wvx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The End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anke für‘s Zuhör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28280"/>
            <a:ext cx="4329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48760" indent="-248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Startmenü Such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urchsucht gesamten Index und das Startmen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ustregel: Alles, was im Explorer im Ordn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&lt;Benutzername&gt;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unterhalb v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Desktop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enthalten ist, wird out-of-the-box durchsu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8600" indent="-26064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avoriten, Verlauf, Kontakte, E-Mails werden ebenfalls durchsuc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5000760" y="1785960"/>
            <a:ext cx="39240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rweiterte und natürlich sprachliche Such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anfragen, wie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documents modified last month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kind:docs modified:last month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ind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r Aktivierung sind folgende Schritte notwendi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m Windows Explorer auf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Organiz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Folder and Search Options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 dem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Search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Tab die Option </a:t>
            </a:r>
            <a:r>
              <a:rPr b="0" i="1" lang="de-DE" sz="2000" spc="-1" strike="noStrike">
                <a:solidFill>
                  <a:srgbClr val="000000"/>
                </a:solidFill>
                <a:latin typeface="Tahoma"/>
              </a:rPr>
              <a:t>Use natural language search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äh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prachumfang: </a:t>
            </a:r>
            <a:br>
              <a:rPr sz="2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msdn2.microsoft.com/en-us/library/aa965711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34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itere Infos: </a:t>
            </a:r>
            <a:br>
              <a:rPr sz="2400"/>
            </a:br>
            <a:r>
              <a:rPr b="0" lang="de-DE" sz="14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http://blogs.msdn.com/cheller/archive/2006/12/05/advanced-query-syntax-what-where-why-and-how.aspx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Suchen in Vist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de Suche kann gespeichert werden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ach einer Suche im Windows Explorer den Button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ave Search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klic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en werden im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Searche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Ordner gespeich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uchen werden als XML Dateien mit der Endung </a:t>
            </a:r>
            <a:r>
              <a:rPr b="0" i="1" lang="de-DE" sz="2400" spc="-1" strike="noStrike">
                <a:solidFill>
                  <a:srgbClr val="000000"/>
                </a:solidFill>
                <a:latin typeface="Tahoma"/>
              </a:rPr>
              <a:t>.search-ms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 gespeich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Desktop Composition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430080"/>
            <a:ext cx="6400800" cy="15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sktop Composi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Wird durch den Desktop Window Manager  (DMW) gesteuert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Einzelne Fenster werden nicht mehr angewiesen Ihren sichtbaren Bereich selbst auf den Bildschirm zu zeichn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Jedem Fenster wird ein sog.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offscreen surface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(Bitmap, Textur, Puffer) zugewies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r DWM komponiert aus diesen </a:t>
            </a:r>
            <a:r>
              <a:rPr b="1" i="1" lang="de-DE" sz="2400" spc="-1" strike="noStrike">
                <a:solidFill>
                  <a:srgbClr val="000000"/>
                </a:solidFill>
                <a:latin typeface="Tahoma"/>
              </a:rPr>
              <a:t>offscreen surfaces </a:t>
            </a: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n eigentlichen Deskto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20:15:54Z</dcterms:created>
  <dc:creator>Jens Schaller</dc:creator>
  <dc:description/>
  <dc:language>en-US</dc:language>
  <cp:lastModifiedBy>Jens Schaller</cp:lastModifiedBy>
  <dcterms:modified xsi:type="dcterms:W3CDTF">2007-03-02T06:39:29Z</dcterms:modified>
  <cp:revision>95</cp:revision>
  <dc:subject/>
  <dc:title>Vortragstitel</dc:title>
</cp:coreProperties>
</file>