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D914-C37B-464D-93A7-FCDA5B0F9AB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9C9B-F578-497F-ACA5-4F05E9974F6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E62E-4AFE-49BF-922A-791CA5DCB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298B-DCC7-47A6-8976-FD88DA290D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AFB7-C73C-4967-BC61-3BF30D94D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A872-5E7B-4CA5-A17E-8348273B49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5565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AC05-354C-4E8D-B5DA-172F1DD4B60E}" type="datetime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07/29/26</a:t>
            </a:fld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fld id="{F5719BE2-E132-46DC-AC6F-B48500484F2F}" type="datetime10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06:0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55652"/>
          <p:cNvSpPr/>
          <p:nvPr/>
        </p:nvSpPr>
        <p:spPr>
          <a:xfrm>
            <a:off x="5583240" y="8683560"/>
            <a:ext cx="127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C550-41FC-44F9-841B-7648054DA669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55653"/>
          <p:cNvSpPr/>
          <p:nvPr/>
        </p:nvSpPr>
        <p:spPr>
          <a:xfrm>
            <a:off x="0" y="8791560"/>
            <a:ext cx="5667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Franklin Gothic Book"/>
              </a:rPr>
              <a:t>© 2004 Microsoft Corporati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Franklin Gothic Book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565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Next Generation Business Solutions Platform Strategy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7D4B-DDB1-4829-990C-017FDA6B9B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50A1-BD77-4C8A-9AF5-CB710E2E1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2621-1F95-4D2F-9691-E6FBD3955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xt: These are the four goals of WPF – next few slides drill down further on eac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I, graphics, documents and media into a single environment: providing a richer experience by unifying these together, allowing them to be integrated in a far deeper way than before, and reducing the number of APIs developers have to track by putting things into a single managed object-orientated 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 graphics processors woefully underused by modern applications. 128MB memory, rich 3D capabilities. Avalon takes advantage of these capabilities using a DirectX-based model. Vector- rather than bitmap-based, supports high-dpi, double buffe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and procedural programming supported for designers and developers to do what they wan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make it as easy as “clicking on a link” to deploy an Avalon application: either via a browser or via a standalone ap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0818-6DEB-4877-8A17-A09D6D375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0317-E140-41D0-88FE-94B429E7CC3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A3C1-BE4E-454D-8213-D0D8CF5E7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C894-A7C8-4180-9C93-5F0A413311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D734-6DA3-416F-ADAD-9FABDBC52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EE7F-B048-4962-B5B7-437F440328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FE1A-6EE2-414F-9C77-4D9B6B33E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46F1-6652-43BB-A03A-73B988A522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6837-03EF-4DAE-95D7-F4B081B4A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69EB-BB75-43D0-82D3-328D93A0DD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31B4-579E-4995-8557-CE6A66C61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83C4-431B-41CD-897E-4E96DB44AB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5583240" y="8685360"/>
            <a:ext cx="127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822F-9A62-4CED-B01F-ED46D0A59B36}" type="slidenum">
              <a:rPr b="0" lang="en-US" sz="1200" spc="-1" strike="noStrike">
                <a:solidFill>
                  <a:srgbClr val="000000"/>
                </a:solidFill>
                <a:latin typeface="Segoe 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80A0-7C00-49AC-A944-BC39AC36D0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5895-2E7A-4082-883F-518144F86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8CB9-7412-4B77-9FAA-EB8ECF8CFC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1276-F9B0-4477-83DC-B53F10A0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D230-F508-4519-A70F-2D33195EF5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0E0A-AB10-4CB6-B259-38A3488EB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415E-D759-485A-8CB3-7AAAF862F1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006-2483-4465-98DC-B435D9EAC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B7E0-E6A0-4773-9595-1AEDDA37C6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88C-0515-4F26-BECE-D5E8AC4E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2A47-5E23-44B9-8266-3145CB370F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2810-5551-4D77-B16F-C953F3208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FB6-2B02-45BA-8DB9-489F65B5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4AF-190F-4FBA-AFD9-702E4069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6AF-A4D1-45ED-A3DB-6DA7C277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124-9EE2-42C9-95BA-F629EF04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EBB-8641-4266-BFA6-9BB0B04E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198-9025-4F92-85B4-B131E5BC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B5C-7075-4C66-ADCD-08C08E10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9DB-30EA-4E58-8A7B-088CA78F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A98-901C-4720-A67B-E11CF517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4AD-D7EB-4512-9332-01B73B2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B11-5BC9-476E-B053-8CEA9F49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0C5-180D-415D-8D18-FA6E8180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CD07-6A54-43FE-95F0-F2C56C07D4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3804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2320" y="1414440"/>
            <a:ext cx="83804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24760" indent="-350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95920" indent="-3690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529280" indent="-3315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32400" indent="-3016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dev_sub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586800" indent="-225720">
              <a:spcBef>
                <a:spcPts val="7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2" marL="902880" indent="-180360">
              <a:spcBef>
                <a:spcPts val="799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3" marL="1263960" indent="-180360">
              <a:spcBef>
                <a:spcPts val="7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4" marL="1625040" indent="-180360">
              <a:spcBef>
                <a:spcPts val="799"/>
              </a:spcBef>
              <a:buClr>
                <a:srgbClr val="ffffff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Sego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Stefan.Lange@empira.de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Background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560" y="1642680"/>
            <a:ext cx="8713800" cy="21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Verdana"/>
              </a:rPr>
              <a:t>Windows Vista</a:t>
            </a: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Verdana"/>
              </a:rPr>
              <a:t>aus Entwicklersicht</a:t>
            </a:r>
            <a:endParaRPr b="1" lang="en-US" sz="40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27.02.2007 –  Stefan Lan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5951520"/>
            <a:ext cx="5000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ffffff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Stefan.Lange@empira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Side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egoe Semibold"/>
              </a:rPr>
              <a:t>Microsoft .NET Framework 3.0</a:t>
            </a:r>
            <a:endParaRPr b="0" lang="en-US" sz="4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65" name="TextBox 27"/>
          <p:cNvSpPr/>
          <p:nvPr/>
        </p:nvSpPr>
        <p:spPr>
          <a:xfrm>
            <a:off x="2790720" y="1574640"/>
            <a:ext cx="387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Presentation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Next generation user experie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0"/>
          <p:cNvSpPr/>
          <p:nvPr/>
        </p:nvSpPr>
        <p:spPr>
          <a:xfrm>
            <a:off x="2803680" y="5958000"/>
            <a:ext cx="3878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CardSpace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Digital identity manag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333"/>
          <p:cNvSpPr/>
          <p:nvPr/>
        </p:nvSpPr>
        <p:spPr>
          <a:xfrm>
            <a:off x="6140520" y="3463920"/>
            <a:ext cx="3003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Workflow         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Business process mode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168"/>
          <p:cNvSpPr/>
          <p:nvPr/>
        </p:nvSpPr>
        <p:spPr>
          <a:xfrm>
            <a:off x="0" y="3463920"/>
            <a:ext cx="3181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Windows Communication Found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Segoe Semibold"/>
                <a:ea typeface="SimSun"/>
              </a:rPr>
              <a:t>Service-oriented develop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Rectangle 25605" descr=""/>
          <p:cNvPicPr/>
          <p:nvPr/>
        </p:nvPicPr>
        <p:blipFill>
          <a:blip r:embed="rId1"/>
          <a:stretch/>
        </p:blipFill>
        <p:spPr>
          <a:xfrm>
            <a:off x="7523280" y="6086520"/>
            <a:ext cx="1544400" cy="69516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2560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2852640" y="4670280"/>
            <a:ext cx="3794400" cy="142272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7"/>
          <p:cNvGrpSpPr/>
          <p:nvPr/>
        </p:nvGrpSpPr>
        <p:grpSpPr>
          <a:xfrm>
            <a:off x="3360600" y="2471760"/>
            <a:ext cx="2775240" cy="2771640"/>
            <a:chOff x="3360600" y="2471760"/>
            <a:chExt cx="2775240" cy="2771640"/>
          </a:xfrm>
        </p:grpSpPr>
        <p:pic>
          <p:nvPicPr>
            <p:cNvPr id="272" name="Rectangle 25608" descr=""/>
            <p:cNvPicPr/>
            <p:nvPr/>
          </p:nvPicPr>
          <p:blipFill>
            <a:blip r:embed="rId3"/>
            <a:stretch/>
          </p:blipFill>
          <p:spPr>
            <a:xfrm>
              <a:off x="3360600" y="247176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Rectangle 25609" descr=""/>
            <p:cNvPicPr/>
            <p:nvPr/>
          </p:nvPicPr>
          <p:blipFill>
            <a:blip r:embed="rId4"/>
            <a:stretch/>
          </p:blipFill>
          <p:spPr>
            <a:xfrm>
              <a:off x="4747680" y="247176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Rectangle 25610" descr=""/>
            <p:cNvPicPr/>
            <p:nvPr/>
          </p:nvPicPr>
          <p:blipFill>
            <a:blip r:embed="rId5"/>
            <a:stretch/>
          </p:blipFill>
          <p:spPr>
            <a:xfrm>
              <a:off x="3360600" y="385704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Rectangle 25611" descr=""/>
            <p:cNvPicPr/>
            <p:nvPr/>
          </p:nvPicPr>
          <p:blipFill>
            <a:blip r:embed="rId6"/>
            <a:stretch/>
          </p:blipFill>
          <p:spPr>
            <a:xfrm>
              <a:off x="4747680" y="3857040"/>
              <a:ext cx="1388160" cy="13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Rectangle 25612" descr=""/>
            <p:cNvPicPr/>
            <p:nvPr/>
          </p:nvPicPr>
          <p:blipFill>
            <a:blip r:embed="rId7"/>
            <a:stretch/>
          </p:blipFill>
          <p:spPr>
            <a:xfrm>
              <a:off x="3740760" y="2851560"/>
              <a:ext cx="2015640" cy="2012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egoe"/>
              </a:rPr>
              <a:t>WPF Visio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1414440"/>
            <a:ext cx="52563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Unified approach to UI, Documents, and Media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Integration as part of development and experience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Integrated, vector-based composition engine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Utilizing the power of the PC throughout the graphics stack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Declarative programming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Bringing designers directly into application development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Sego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Ease of deploymen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ego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"/>
              </a:rPr>
              <a:t>Allowing administrators to deploy and manage applications securely</a:t>
            </a:r>
            <a:endParaRPr b="0" lang="en-US" sz="2000" spc="-1" strike="noStrike">
              <a:solidFill>
                <a:srgbClr val="ffffff"/>
              </a:solidFill>
              <a:latin typeface="Segoe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5173560" y="925200"/>
            <a:ext cx="3866400" cy="4241520"/>
            <a:chOff x="5173560" y="925200"/>
            <a:chExt cx="3866400" cy="4241520"/>
          </a:xfrm>
        </p:grpSpPr>
        <p:pic>
          <p:nvPicPr>
            <p:cNvPr id="280" name="Picture 5" descr="secondpage"/>
            <p:cNvPicPr/>
            <p:nvPr/>
          </p:nvPicPr>
          <p:blipFill>
            <a:blip r:embed="rId1"/>
            <a:stretch/>
          </p:blipFill>
          <p:spPr>
            <a:xfrm rot="294600">
              <a:off x="5257440" y="2895480"/>
              <a:ext cx="3670200" cy="21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6" descr="thirdpage"/>
            <p:cNvPicPr/>
            <p:nvPr/>
          </p:nvPicPr>
          <p:blipFill>
            <a:blip r:embed="rId2"/>
            <a:stretch/>
          </p:blipFill>
          <p:spPr>
            <a:xfrm rot="21154800">
              <a:off x="5410080" y="1143000"/>
              <a:ext cx="3510000" cy="20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11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Segoe"/>
              </a:rPr>
              <a:t>WPF capabilities</a:t>
            </a:r>
            <a:endParaRPr b="0" lang="en-US" sz="4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4" name="Rectangle 31"/>
          <p:cNvSpPr/>
          <p:nvPr/>
        </p:nvSpPr>
        <p:spPr>
          <a:xfrm>
            <a:off x="76320" y="6172200"/>
            <a:ext cx="899136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1722600" y="1752480"/>
            <a:ext cx="58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egoe"/>
              </a:rPr>
              <a:t>Windows Presentation Foundatio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9" descr="WinFXLogo"/>
          <p:cNvPicPr/>
          <p:nvPr/>
        </p:nvPicPr>
        <p:blipFill>
          <a:blip r:embed="rId1"/>
          <a:stretch/>
        </p:blipFill>
        <p:spPr>
          <a:xfrm>
            <a:off x="609480" y="4876920"/>
            <a:ext cx="1619280" cy="861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0" descr="WinFX"/>
          <p:cNvPicPr/>
          <p:nvPr/>
        </p:nvPicPr>
        <p:blipFill>
          <a:blip r:embed="rId2"/>
          <a:stretch/>
        </p:blipFill>
        <p:spPr>
          <a:xfrm>
            <a:off x="457200" y="2155680"/>
            <a:ext cx="84582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 Varian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PF Applik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auf dem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lassische Windows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XBAP (XML Browser 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auf dem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gleichbar mit 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äuft nur auf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PF/E (Code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kein .NET auf dem Client notwe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Browserübergreif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379872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XBAP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3886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lle Unterstützung von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3D Graf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leicher Quellcode wie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llbild im I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4495680" y="1676520"/>
            <a:ext cx="41911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äuft ähnlich wie Flash und in allen Brows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es C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AML und 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mnäch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anged Code (C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75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C#, VB .NET etc. programmier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4495680" y="685800"/>
            <a:ext cx="379908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4495680" y="685800"/>
            <a:ext cx="379908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/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86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Orca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ächste Version von Visual Studi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hält nächste Version von C#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ulti-Target Suppo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nsthafter Support für WP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e CTP noch ohne WPF Desig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press Editions bleiben er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aussetz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echnische Verbess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lass”, Common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ta Side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Presentation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O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xpression Fami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8" descr="button-rgb-v4"/>
          <p:cNvPicPr/>
          <p:nvPr/>
        </p:nvPicPr>
        <p:blipFill>
          <a:blip r:embed="rId1"/>
          <a:stretch/>
        </p:blipFill>
        <p:spPr>
          <a:xfrm>
            <a:off x="7238880" y="9144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O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icrosoft Express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duktfamilie für Grafiker und Desig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Bl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pression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Web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-Entwicklungsumgebung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s FrontPage hervorgegan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fügbar seit Dezember 200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9" descr="standards00_450x253"/>
          <p:cNvPicPr/>
          <p:nvPr/>
        </p:nvPicPr>
        <p:blipFill>
          <a:blip r:embed="rId1"/>
          <a:stretch/>
        </p:blipFill>
        <p:spPr>
          <a:xfrm>
            <a:off x="1600200" y="3200400"/>
            <a:ext cx="594360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Blend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YSIWYG-Editor für XAM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gleichbar mit Adobe Direc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Beta 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Picture 9" descr="EfficientCollaboration_450x253"/>
          <p:cNvPicPr/>
          <p:nvPr/>
        </p:nvPicPr>
        <p:blipFill>
          <a:blip r:embed="rId1"/>
          <a:stretch/>
        </p:blipFill>
        <p:spPr>
          <a:xfrm>
            <a:off x="1905120" y="3352680"/>
            <a:ext cx="54864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Desig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ereint die Vorteile von Vektor- und Pixeltechnik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Expression des ehem. Software-herstellers Creature House (übernommen 2004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ann XAML und PDF produzier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Beta 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4" name="Picture 7" descr="InnoVectorDrawing_450x253"/>
          <p:cNvPicPr/>
          <p:nvPr/>
        </p:nvPicPr>
        <p:blipFill>
          <a:blip r:embed="rId1"/>
          <a:stretch/>
        </p:blipFill>
        <p:spPr>
          <a:xfrm>
            <a:off x="1600200" y="3849840"/>
            <a:ext cx="502920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xpression Medi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oftware für Digital Asset Managemen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iView MediaPro (übernommen 2006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ktuell: Noch keine CT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7" name="Picture 5" descr="EffortlessOrganization_450x253"/>
          <p:cNvPicPr/>
          <p:nvPr/>
        </p:nvPicPr>
        <p:blipFill>
          <a:blip r:embed="rId1"/>
          <a:stretch/>
        </p:blipFill>
        <p:spPr>
          <a:xfrm>
            <a:off x="1371600" y="3440160"/>
            <a:ext cx="54864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www.seewindowsvista.com/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tp://blogs.msdn.com/davbosch/archive/2007/02/14/nice-list-of-demo-able-wpf-applications.asp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 / Diskuss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0440" y="154080"/>
            <a:ext cx="822960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emibold"/>
              </a:rPr>
              <a:t>Windows Vista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Das größte je dagewesene Windows-Releas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187440" y="326232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263240" y="1960560"/>
            <a:ext cx="2582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Network Access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85640" y="3162240"/>
            <a:ext cx="2656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Network Location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87480" y="2854440"/>
            <a:ext cx="246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High Resolution/High D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529160" y="5931000"/>
            <a:ext cx="187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Side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630880" y="4119480"/>
            <a:ext cx="3380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Vista Display Driver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315040" y="3341520"/>
            <a:ext cx="1587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eople Near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033880" y="5411880"/>
            <a:ext cx="186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Def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050200" y="3602160"/>
            <a:ext cx="198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owe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7918920" y="3693960"/>
            <a:ext cx="107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Live Ic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7405560" y="1830240"/>
            <a:ext cx="171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Side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7469640" y="2595600"/>
            <a:ext cx="174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arental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678560" y="1890720"/>
            <a:ext cx="265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Feedback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4658760" y="4627440"/>
            <a:ext cx="2533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Desktop Window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5181120" y="3097080"/>
            <a:ext cx="3266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gistry/File System 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275760" y="2529000"/>
            <a:ext cx="181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rotected Mode 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5230800" y="3627360"/>
            <a:ext cx="266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Service Hard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3504600" y="1752480"/>
            <a:ext cx="123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Sync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018240" y="1544760"/>
            <a:ext cx="60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A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200320" y="2550960"/>
            <a:ext cx="2116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resentation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327960" y="3994200"/>
            <a:ext cx="138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Preview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57000" y="1617840"/>
            <a:ext cx="23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ser Account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-70200" y="2220840"/>
            <a:ext cx="249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Ad-hoc Meeting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990480" y="3395520"/>
            <a:ext cx="1347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Quick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392360" y="2511360"/>
            <a:ext cx="2484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Imaging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2972520" y="4386240"/>
            <a:ext cx="283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Resource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8259840" y="2971800"/>
            <a:ext cx="93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MC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2626920" y="2916360"/>
            <a:ext cx="1488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ancelable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3224880" y="6126120"/>
            <a:ext cx="3123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source Exhaustion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5045400" y="3916440"/>
            <a:ext cx="295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Peer Name Resolu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7003440" y="2351160"/>
            <a:ext cx="140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Reading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105120" y="6515280"/>
            <a:ext cx="250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Disk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6"/>
          <p:cNvSpPr/>
          <p:nvPr/>
        </p:nvSpPr>
        <p:spPr>
          <a:xfrm>
            <a:off x="6047280" y="1620720"/>
            <a:ext cx="168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Restar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7"/>
          <p:cNvSpPr/>
          <p:nvPr/>
        </p:nvSpPr>
        <p:spPr>
          <a:xfrm>
            <a:off x="5798520" y="4238640"/>
            <a:ext cx="219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Transactional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8"/>
          <p:cNvSpPr/>
          <p:nvPr/>
        </p:nvSpPr>
        <p:spPr>
          <a:xfrm>
            <a:off x="1926720" y="3398760"/>
            <a:ext cx="134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ingle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2845800" y="4708440"/>
            <a:ext cx="200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emory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0"/>
          <p:cNvSpPr/>
          <p:nvPr/>
        </p:nvSpPr>
        <p:spPr>
          <a:xfrm>
            <a:off x="7051680" y="4681440"/>
            <a:ext cx="2149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tartup Repair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6426360" y="5821200"/>
            <a:ext cx="245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Transactional 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2"/>
          <p:cNvSpPr/>
          <p:nvPr/>
        </p:nvSpPr>
        <p:spPr>
          <a:xfrm>
            <a:off x="413280" y="5956200"/>
            <a:ext cx="2897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Eventing and Instr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3"/>
          <p:cNvSpPr/>
          <p:nvPr/>
        </p:nvSpPr>
        <p:spPr>
          <a:xfrm>
            <a:off x="4164480" y="1494000"/>
            <a:ext cx="170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S-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3792600" y="5583240"/>
            <a:ext cx="96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Info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5"/>
          <p:cNvSpPr/>
          <p:nvPr/>
        </p:nvSpPr>
        <p:spPr>
          <a:xfrm>
            <a:off x="2976480" y="3843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uperFe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6746760" y="5580000"/>
            <a:ext cx="1413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egoe UI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7"/>
          <p:cNvSpPr/>
          <p:nvPr/>
        </p:nvSpPr>
        <p:spPr>
          <a:xfrm>
            <a:off x="5936400" y="5165640"/>
            <a:ext cx="73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Flip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6825600" y="6081840"/>
            <a:ext cx="1469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New Explor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9"/>
          <p:cNvSpPr/>
          <p:nvPr/>
        </p:nvSpPr>
        <p:spPr>
          <a:xfrm>
            <a:off x="1036080" y="4500720"/>
            <a:ext cx="199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Taskbar Thumbn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0"/>
          <p:cNvSpPr/>
          <p:nvPr/>
        </p:nvSpPr>
        <p:spPr>
          <a:xfrm>
            <a:off x="8370000" y="3311640"/>
            <a:ext cx="57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1"/>
          <p:cNvSpPr/>
          <p:nvPr/>
        </p:nvSpPr>
        <p:spPr>
          <a:xfrm>
            <a:off x="3671280" y="5886360"/>
            <a:ext cx="695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XA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2"/>
          <p:cNvSpPr/>
          <p:nvPr/>
        </p:nvSpPr>
        <p:spPr>
          <a:xfrm>
            <a:off x="7190280" y="4437000"/>
            <a:ext cx="148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egoe Semibold"/>
              </a:rPr>
              <a:t>Search F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3"/>
          <p:cNvSpPr/>
          <p:nvPr/>
        </p:nvSpPr>
        <p:spPr>
          <a:xfrm>
            <a:off x="6709320" y="2119320"/>
            <a:ext cx="126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Ink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4"/>
          <p:cNvSpPr/>
          <p:nvPr/>
        </p:nvSpPr>
        <p:spPr>
          <a:xfrm>
            <a:off x="7893720" y="4071960"/>
            <a:ext cx="126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plit 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5"/>
          <p:cNvSpPr/>
          <p:nvPr/>
        </p:nvSpPr>
        <p:spPr>
          <a:xfrm>
            <a:off x="-108720" y="5492880"/>
            <a:ext cx="2724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Mandatory Integrity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6"/>
          <p:cNvSpPr/>
          <p:nvPr/>
        </p:nvSpPr>
        <p:spPr>
          <a:xfrm>
            <a:off x="6990120" y="6392880"/>
            <a:ext cx="205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I Privileg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7"/>
          <p:cNvSpPr/>
          <p:nvPr/>
        </p:nvSpPr>
        <p:spPr>
          <a:xfrm>
            <a:off x="2395440" y="2316240"/>
            <a:ext cx="150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Secure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3352320" y="5040360"/>
            <a:ext cx="262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Filtering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9"/>
          <p:cNvSpPr/>
          <p:nvPr/>
        </p:nvSpPr>
        <p:spPr>
          <a:xfrm>
            <a:off x="222480" y="4761000"/>
            <a:ext cx="2803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User Mode Driver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0"/>
          <p:cNvSpPr/>
          <p:nvPr/>
        </p:nvSpPr>
        <p:spPr>
          <a:xfrm>
            <a:off x="1325160" y="5711760"/>
            <a:ext cx="230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New Open/Save Dia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1"/>
          <p:cNvSpPr/>
          <p:nvPr/>
        </p:nvSpPr>
        <p:spPr>
          <a:xfrm>
            <a:off x="-32040" y="3513240"/>
            <a:ext cx="213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Shell Propert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2"/>
          <p:cNvSpPr/>
          <p:nvPr/>
        </p:nvSpPr>
        <p:spPr>
          <a:xfrm>
            <a:off x="365760" y="4264200"/>
            <a:ext cx="2410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logon Re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3"/>
          <p:cNvSpPr/>
          <p:nvPr/>
        </p:nvSpPr>
        <p:spPr>
          <a:xfrm>
            <a:off x="4961160" y="2798640"/>
            <a:ext cx="3530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Communic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4"/>
          <p:cNvSpPr/>
          <p:nvPr/>
        </p:nvSpPr>
        <p:spPr>
          <a:xfrm>
            <a:off x="3618000" y="2168640"/>
            <a:ext cx="3260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ndows Present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5"/>
          <p:cNvSpPr/>
          <p:nvPr/>
        </p:nvSpPr>
        <p:spPr>
          <a:xfrm>
            <a:off x="2222280" y="3898800"/>
            <a:ext cx="65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6"/>
          <p:cNvSpPr/>
          <p:nvPr/>
        </p:nvSpPr>
        <p:spPr>
          <a:xfrm>
            <a:off x="2556720" y="5308560"/>
            <a:ext cx="2646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Open Package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7"/>
          <p:cNvSpPr/>
          <p:nvPr/>
        </p:nvSpPr>
        <p:spPr>
          <a:xfrm>
            <a:off x="53640" y="6208560"/>
            <a:ext cx="2326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XML Paper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8"/>
          <p:cNvSpPr/>
          <p:nvPr/>
        </p:nvSpPr>
        <p:spPr>
          <a:xfrm>
            <a:off x="5758200" y="4919760"/>
            <a:ext cx="2966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Windows Workflow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9"/>
          <p:cNvSpPr/>
          <p:nvPr/>
        </p:nvSpPr>
        <p:spPr>
          <a:xfrm>
            <a:off x="403560" y="5211720"/>
            <a:ext cx="2096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Windows Installer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0"/>
          <p:cNvSpPr/>
          <p:nvPr/>
        </p:nvSpPr>
        <p:spPr>
          <a:xfrm>
            <a:off x="217800" y="1905120"/>
            <a:ext cx="117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PowerSh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1"/>
          <p:cNvSpPr/>
          <p:nvPr/>
        </p:nvSpPr>
        <p:spPr>
          <a:xfrm>
            <a:off x="7836480" y="5361120"/>
            <a:ext cx="132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RSS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2"/>
          <p:cNvSpPr/>
          <p:nvPr/>
        </p:nvSpPr>
        <p:spPr>
          <a:xfrm>
            <a:off x="1231200" y="4941720"/>
            <a:ext cx="223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Segoe Semibold"/>
              </a:rPr>
              <a:t>Function Discovery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3"/>
          <p:cNvSpPr/>
          <p:nvPr/>
        </p:nvSpPr>
        <p:spPr>
          <a:xfrm>
            <a:off x="4772520" y="5668920"/>
            <a:ext cx="186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Segoe Semibold"/>
              </a:rPr>
              <a:t>Wizard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4"/>
          <p:cNvSpPr/>
          <p:nvPr/>
        </p:nvSpPr>
        <p:spPr>
          <a:xfrm>
            <a:off x="-21240" y="3757680"/>
            <a:ext cx="231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rypto Nex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5"/>
          <p:cNvSpPr/>
          <p:nvPr/>
        </p:nvSpPr>
        <p:spPr>
          <a:xfrm>
            <a:off x="6905880" y="5145120"/>
            <a:ext cx="2007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egoe Semibold"/>
              </a:rPr>
              <a:t>Credential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Form 954370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2113200" cy="96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4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8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4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6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8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2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4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6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2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4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6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8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2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4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6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8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2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4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8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2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4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8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92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4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6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8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2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4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6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2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4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6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18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22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4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6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2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4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8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2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braucht der Entwickl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rvice Pack 1 mit Vista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chtig: MSDN Hilfe von Oktober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6.0 SDK (DVD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hält die Hilfe zu WPF, WF, W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rcas Tools für Visual Studio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vember 2006 CTP (kein weiteres C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ackage für W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ackage für W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3.0 ist bereits enthalten (nur einschal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Glas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och keine .NET Kapselung für Vista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 [DllImport] selber mach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eatures nur in Vista verfüg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NET Klassen erst mit Visual Studio O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dows Vista User Interfac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eue Common Controls (comctl32.dll v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mmand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sk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ramework für Wi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taBridge” leider (noch) nicht brauch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16385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613040" cy="2192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Neue Common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Sideba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siert auf „Gadg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TML und Jave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Windows Vista Desktop with Windows Sidebar and gadgets"/>
          <p:cNvPicPr/>
          <p:nvPr/>
        </p:nvPicPr>
        <p:blipFill>
          <a:blip r:embed="rId1"/>
          <a:stretch/>
        </p:blipFill>
        <p:spPr>
          <a:xfrm>
            <a:off x="1523880" y="2895480"/>
            <a:ext cx="58294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land Weigelt</cp:lastModifiedBy>
  <dcterms:modified xsi:type="dcterms:W3CDTF">2007-03-01T21:12:0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