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06B04-44FF-4C93-8DB9-4087F1892E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D27E3-2C1D-426D-AF06-B1A10CFF7D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4DC0B-3322-4A3F-AD8A-6B6F47D13B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04539-9402-4D48-8395-B4388AC0A7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8472D-5301-4132-9AE6-5F63BEC6F0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4848E-5CE6-4317-9CC8-64BA3A5C9A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B61AE-8AB2-4EB7-9EAF-83095BB3B8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47D40-E42D-4754-AA47-AD64DE47DD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E430D-2E7A-41FA-BEF8-DFFB403E00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FC3E9-4F58-4941-8F32-BA96AE8D4C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BF01E-9DFF-4576-B6FD-24CC20FD2D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C2061-0EDC-4141-9690-6452F1BF33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B09D-FE5B-4899-9899-0543B758C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addons.mozilla.org/firefox/1563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rweiterungen.de/searchplugin/" TargetMode="External"/><Relationship Id="rId2" Type="http://schemas.openxmlformats.org/officeDocument/2006/relationships/hyperlink" Target="http://opensearch.a9.com/" TargetMode="External"/><Relationship Id="rId3" Type="http://schemas.openxmlformats.org/officeDocument/2006/relationships/hyperlink" Target="http://searchplugins.net/" TargetMode="External"/><Relationship Id="rId4" Type="http://schemas.openxmlformats.org/officeDocument/2006/relationships/hyperlink" Target="http://www.firefox-browser.de/wiki/Searchplugins" TargetMode="External"/><Relationship Id="rId5" Type="http://schemas.openxmlformats.org/officeDocument/2006/relationships/hyperlink" Target="http://www.bonn-to-code.net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icrosoft.com/windows/ie/searchguide/de-de/default.mspx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Search Provider für FireFox und Internet Explorer 7 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6.01.2007 –  Jan Welk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5152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info@jan-welker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ttp://dotnet-snippets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ntfernen der Suchprovide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E7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Extras </a:t>
            </a: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Internetoptionen </a:t>
            </a: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Allgemein </a:t>
            </a: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Such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Einstellung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irefox 1.5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Erweiterung „SearchPluginHacks“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von </a:t>
            </a:r>
            <a:r>
              <a:rPr b="1" lang="de-DE" sz="1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s://addons.mozilla.org/firefox/1563/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installieren und Kontextmenü nutz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irefox 2.0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Suchmaschinen verwalten…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118120" y="2708280"/>
            <a:ext cx="40258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eiterführende Link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ilfe für Suchplugins für den Firefox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erweiterungen.de/searchplugin/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pensearch von A9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de-DE" sz="18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opensearch.a9.com/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iele Suchanbieter und Information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http://searchplugins.net/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usführliche Anleitung für Firefox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http://www.firefox-browser.de/wiki/Searchplugins#Ab_Firefox_2.0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ownload der Demoprojekte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9999"/>
                </a:solidFill>
                <a:uFillTx/>
                <a:latin typeface="Tahoma"/>
                <a:hlinkClick r:id="rId5"/>
              </a:rPr>
              <a:t>http://www.bonn-to-code.ne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as sind Search Provider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irefox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ternet Explorer 7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3744720" cy="1371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11280" y="4292640"/>
            <a:ext cx="4038480" cy="2152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009400" y="256536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Ope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038560" y="2997360"/>
            <a:ext cx="4105440" cy="19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f69200"/>
                </a:solidFill>
                <a:latin typeface="Wingdings"/>
                <a:ea typeface="Wingdings"/>
              </a:rPr>
              <a:t></a:t>
            </a:r>
            <a:endParaRPr b="1" lang="en-US" sz="54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sinnvolle Erweiterungen zu dynamischen Webseiten die über eine Suchfunktion verfüg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zum suchen muss nicht vorher auf die Seite gewechselt werd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nach einem Suchbegriff kann schnell nacheinander auf verschiedenen Webseiten gesucht werd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Zukünftiger Standard: Opensearch von A9.com (ab FF 2.0 und IE7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3860640"/>
            <a:ext cx="822960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f69200"/>
                </a:solidFill>
                <a:latin typeface="Wingdings"/>
                <a:ea typeface="Wingdings"/>
              </a:rPr>
              <a:t>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4797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irefox 1.5 benötigt „MozSearch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Opera muss manuell konfigurie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om Suchprovider zur Webseit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eispiel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ttp://www.foo.com/default.aspx?query=</a:t>
            </a:r>
            <a:r>
              <a:rPr b="1" lang="de-DE" sz="2400" spc="-1" strike="noStrike">
                <a:solidFill>
                  <a:srgbClr val="ff0000"/>
                </a:solidFill>
                <a:latin typeface="Tahoma"/>
              </a:rPr>
              <a:t>Bon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471960" y="3716280"/>
            <a:ext cx="818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ff"/>
                </a:solidFill>
                <a:latin typeface="Arial"/>
              </a:rPr>
              <a:t>protected void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Page_Load(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object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sender, EventArgs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(Request.QueryString[</a:t>
            </a:r>
            <a:r>
              <a:rPr b="0" sz="1800" spc="-1" strike="noStrike">
                <a:solidFill>
                  <a:srgbClr val="ff0000"/>
                </a:solidFill>
                <a:latin typeface="Arial"/>
              </a:rPr>
              <a:t>"query"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] != 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null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Suchbegriff = Request.QueryString[</a:t>
            </a:r>
            <a:r>
              <a:rPr b="0" sz="1800" spc="-1" strike="noStrike">
                <a:solidFill>
                  <a:srgbClr val="ff0000"/>
                </a:solidFill>
                <a:latin typeface="Arial"/>
              </a:rPr>
              <a:t>"query"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].ToString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Response.Write(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.Format(</a:t>
            </a:r>
            <a:r>
              <a:rPr b="0" sz="1800" spc="-1" strike="noStrike">
                <a:solidFill>
                  <a:srgbClr val="ff0000"/>
                </a:solidFill>
                <a:latin typeface="Arial"/>
              </a:rPr>
              <a:t>"Es wurde nach {0} gesucht"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, Suchbegrif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69200"/>
                </a:solidFill>
                <a:latin typeface="Verdana"/>
              </a:rPr>
              <a:t>Opensearch –Provider erstellen</a:t>
            </a:r>
            <a:br>
              <a:rPr sz="2800"/>
            </a:br>
            <a:r>
              <a:rPr b="1" lang="de-DE" sz="2800" spc="-1" strike="noStrike">
                <a:solidFill>
                  <a:srgbClr val="f69200"/>
                </a:solidFill>
                <a:latin typeface="Verdana"/>
              </a:rPr>
              <a:t>(IE7 und FF2.0)</a:t>
            </a:r>
            <a:endParaRPr b="1" lang="en-US" sz="28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XML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&lt;?xml </a:t>
            </a: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version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0" lang="de-DE" sz="1600" spc="-1" strike="noStrike">
                <a:solidFill>
                  <a:srgbClr val="9900ff"/>
                </a:solidFill>
                <a:latin typeface="Verdana"/>
              </a:rPr>
              <a:t>1.0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" </a:t>
            </a: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encoding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0" lang="de-DE" sz="1600" spc="-1" strike="noStrike">
                <a:solidFill>
                  <a:srgbClr val="cc00cc"/>
                </a:solidFill>
                <a:latin typeface="Verdana"/>
              </a:rPr>
              <a:t>UTF-8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"?&gt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&lt;OpenSearchDescription </a:t>
            </a: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xmlns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0" lang="de-DE" sz="1600" spc="-1" strike="noStrike">
                <a:solidFill>
                  <a:srgbClr val="cc00cc"/>
                </a:solidFill>
                <a:latin typeface="Verdana"/>
              </a:rPr>
              <a:t>http://a9.com/-/spec/opensearch/1.1/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"&gt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&lt;ShortName&gt;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uchplugin Demo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&lt;/ShortName&gt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&lt;Description&gt;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uchplugin Demo Beschreibung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&lt;/Description&gt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&lt;Url </a:t>
            </a: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type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0" lang="de-DE" sz="1600" spc="-1" strike="noStrike">
                <a:solidFill>
                  <a:srgbClr val="cc00cc"/>
                </a:solidFill>
                <a:latin typeface="Verdana"/>
              </a:rPr>
              <a:t>text/html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" </a:t>
            </a: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template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0" lang="de-DE" sz="1600" spc="-1" strike="noStrike">
                <a:solidFill>
                  <a:srgbClr val="cc00cc"/>
                </a:solidFill>
                <a:latin typeface="Verdana"/>
              </a:rPr>
              <a:t>http://.../default.aspx?query={searchTerms}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"/&gt;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&lt;/OpenSearchDescription&gt;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Link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ff"/>
                </a:solidFill>
                <a:latin typeface="Verdana"/>
              </a:rPr>
              <a:t>&lt;a </a:t>
            </a:r>
            <a:r>
              <a:rPr b="1" lang="de-DE" sz="1300" spc="-1" strike="noStrike">
                <a:solidFill>
                  <a:srgbClr val="ff0000"/>
                </a:solidFill>
                <a:latin typeface="Verdana"/>
              </a:rPr>
              <a:t>href</a:t>
            </a:r>
            <a:r>
              <a:rPr b="1" lang="de-DE" sz="1300" spc="-1" strike="noStrike">
                <a:solidFill>
                  <a:srgbClr val="0000ff"/>
                </a:solidFill>
                <a:latin typeface="Verdana"/>
              </a:rPr>
              <a:t>="#" </a:t>
            </a:r>
            <a:r>
              <a:rPr b="1" lang="de-DE" sz="1300" spc="-1" strike="noStrike">
                <a:solidFill>
                  <a:srgbClr val="ff0000"/>
                </a:solidFill>
                <a:latin typeface="Verdana"/>
              </a:rPr>
              <a:t>onclick</a:t>
            </a:r>
            <a:r>
              <a:rPr b="1" lang="de-DE" sz="1300" spc="-1" strike="noStrike">
                <a:solidFill>
                  <a:srgbClr val="0000ff"/>
                </a:solidFill>
                <a:latin typeface="Verdana"/>
              </a:rPr>
              <a:t>='</a:t>
            </a:r>
            <a:r>
              <a:rPr b="1" lang="de-DE" sz="1300" spc="-1" strike="noStrike">
                <a:solidFill>
                  <a:srgbClr val="cc00cc"/>
                </a:solidFill>
                <a:latin typeface="Verdana"/>
              </a:rPr>
              <a:t>window.external.AddSearchProvider("http://.../IE7Suche.xml</a:t>
            </a:r>
            <a:r>
              <a:rPr b="1" lang="de-DE" sz="1300" spc="-1" strike="noStrike">
                <a:solidFill>
                  <a:srgbClr val="9900ff"/>
                </a:solidFill>
                <a:latin typeface="Verdana"/>
              </a:rPr>
              <a:t>" );</a:t>
            </a:r>
            <a:r>
              <a:rPr b="1" lang="de-DE" sz="1300" spc="-1" strike="noStrike">
                <a:solidFill>
                  <a:srgbClr val="0000ff"/>
                </a:solidFill>
                <a:latin typeface="Verdana"/>
              </a:rPr>
              <a:t>'&gt;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Verdana"/>
              </a:rPr>
              <a:t>Suchplugin installieren</a:t>
            </a:r>
            <a:r>
              <a:rPr b="1" lang="de-DE" sz="1300" spc="-1" strike="noStrike">
                <a:solidFill>
                  <a:srgbClr val="0000ff"/>
                </a:solidFill>
                <a:latin typeface="Verdana"/>
              </a:rPr>
              <a:t>&lt;/a&gt;</a:t>
            </a:r>
            <a:r>
              <a:rPr b="1" lang="de-DE" sz="13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lternative: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microsoft.com/windows/ie/searchguide/de-de/default.mspx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771640" y="1628640"/>
            <a:ext cx="3922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ozSearch für Firefox 1.5 erstell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2891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1440" y="1700280"/>
            <a:ext cx="7489800" cy="34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JavaScrip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ff"/>
                </a:solidFill>
                <a:latin typeface="Verdana"/>
              </a:rPr>
              <a:t>&lt;script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sz="1100" spc="-1" strike="noStrike">
                <a:solidFill>
                  <a:srgbClr val="ff0000"/>
                </a:solidFill>
                <a:latin typeface="Verdana"/>
              </a:rPr>
              <a:t>type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="</a:t>
            </a:r>
            <a:r>
              <a:rPr b="1" sz="1100" spc="-1" strike="noStrike">
                <a:solidFill>
                  <a:srgbClr val="9900ff"/>
                </a:solidFill>
                <a:latin typeface="Verdana"/>
              </a:rPr>
              <a:t>text/javascript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1" sz="1100" spc="-1" strike="noStrike">
                <a:solidFill>
                  <a:srgbClr val="0000ff"/>
                </a:solidFill>
                <a:latin typeface="Verdana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&lt;!-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function addEngine(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if ((typeof window.sidebar == "object") &amp;&amp; (typeof window.sidebar.addSearchEngine == "function")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window.sidebar.addSearchEngine(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"http://</a:t>
            </a: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...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/FirefoxPlugin.src"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"http://</a:t>
            </a: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...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/Firefoxplugin.png", "Firefox Suchplugin Demo", "Programming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el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alert("Sie benötigen Mozilla Firefox, um das Such-Plugin zu installieren.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//--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ff"/>
                </a:solidFill>
                <a:latin typeface="Verdana"/>
              </a:rPr>
              <a:t>&lt;/script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9120" y="5373720"/>
            <a:ext cx="79236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Lin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ff"/>
                </a:solidFill>
                <a:latin typeface="Arial"/>
              </a:rPr>
              <a:t>&lt;a </a:t>
            </a:r>
            <a:r>
              <a:rPr b="0" sz="1600" spc="-1" strike="noStrike">
                <a:solidFill>
                  <a:srgbClr val="ff0000"/>
                </a:solidFill>
                <a:latin typeface="Arial"/>
              </a:rPr>
              <a:t>href</a:t>
            </a:r>
            <a:r>
              <a:rPr b="0" sz="16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sz="1600" spc="-1" strike="noStrike">
                <a:solidFill>
                  <a:srgbClr val="9900ff"/>
                </a:solidFill>
                <a:latin typeface="Arial"/>
              </a:rPr>
              <a:t>#</a:t>
            </a:r>
            <a:r>
              <a:rPr b="0" sz="1600" spc="-1" strike="noStrike">
                <a:solidFill>
                  <a:srgbClr val="0000ff"/>
                </a:solidFill>
                <a:latin typeface="Arial"/>
              </a:rPr>
              <a:t>" </a:t>
            </a:r>
            <a:r>
              <a:rPr b="0" sz="1600" spc="-1" strike="noStrike">
                <a:solidFill>
                  <a:srgbClr val="ff0000"/>
                </a:solidFill>
                <a:latin typeface="Arial"/>
              </a:rPr>
              <a:t>onclick</a:t>
            </a:r>
            <a:r>
              <a:rPr b="0" sz="16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sz="1600" spc="-1" strike="noStrike">
                <a:solidFill>
                  <a:srgbClr val="9900ff"/>
                </a:solidFill>
                <a:latin typeface="Arial"/>
              </a:rPr>
              <a:t>addEngine()</a:t>
            </a:r>
            <a:r>
              <a:rPr b="0" sz="1600" spc="-1" strike="noStrike">
                <a:solidFill>
                  <a:srgbClr val="0000ff"/>
                </a:solidFill>
                <a:latin typeface="Arial"/>
              </a:rPr>
              <a:t>"&gt;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Klicken Sie hier, um das Plugin zu installieren.</a:t>
            </a:r>
            <a:r>
              <a:rPr b="0" sz="1600" spc="-1" strike="noStrike">
                <a:solidFill>
                  <a:srgbClr val="0000ff"/>
                </a:solidFill>
                <a:latin typeface="Arial"/>
              </a:rPr>
              <a:t>&lt;/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ozSearch für Firefox 1.5 erstell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2133720"/>
            <a:ext cx="79214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RC – Dat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&lt;SEARCH </a:t>
            </a:r>
            <a:r>
              <a:rPr b="1" lang="de-DE" sz="1200" spc="-1" strike="noStrike">
                <a:solidFill>
                  <a:srgbClr val="ff0000"/>
                </a:solidFill>
                <a:latin typeface="Verdana"/>
              </a:rPr>
              <a:t>name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1" lang="de-DE" sz="1200" spc="-1" strike="noStrike">
                <a:solidFill>
                  <a:srgbClr val="9900ff"/>
                </a:solidFill>
                <a:latin typeface="Verdana"/>
              </a:rPr>
              <a:t>Firefox Suchplugin Demo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" </a:t>
            </a:r>
            <a:r>
              <a:rPr b="1" lang="de-DE" sz="1200" spc="-1" strike="noStrike">
                <a:solidFill>
                  <a:srgbClr val="ff0000"/>
                </a:solidFill>
                <a:latin typeface="Verdana"/>
              </a:rPr>
              <a:t>description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1" lang="de-DE" sz="1200" spc="-1" strike="noStrike">
                <a:solidFill>
                  <a:srgbClr val="9900ff"/>
                </a:solidFill>
                <a:latin typeface="Verdana"/>
              </a:rPr>
              <a:t>Firefox Suchplugin Demo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Verdana"/>
              </a:rPr>
              <a:t>method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1" lang="de-DE" sz="1200" spc="-1" strike="noStrike">
                <a:solidFill>
                  <a:srgbClr val="9900ff"/>
                </a:solidFill>
                <a:latin typeface="Verdana"/>
              </a:rPr>
              <a:t>GET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" </a:t>
            </a:r>
            <a:r>
              <a:rPr b="1" lang="de-DE" sz="1200" spc="-1" strike="noStrike">
                <a:solidFill>
                  <a:srgbClr val="ff0000"/>
                </a:solidFill>
                <a:latin typeface="Verdana"/>
              </a:rPr>
              <a:t>action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1" lang="de-DE" sz="1200" spc="-1" strike="noStrike">
                <a:solidFill>
                  <a:srgbClr val="9900ff"/>
                </a:solidFill>
                <a:latin typeface="Verdana"/>
              </a:rPr>
              <a:t>http://.../Default.aspx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&lt;INPUT </a:t>
            </a:r>
            <a:r>
              <a:rPr b="1" lang="de-DE" sz="1200" spc="-1" strike="noStrike">
                <a:solidFill>
                  <a:srgbClr val="ff0000"/>
                </a:solidFill>
                <a:latin typeface="Verdana"/>
              </a:rPr>
              <a:t>name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1" lang="de-DE" sz="1200" spc="-1" strike="noStrike">
                <a:solidFill>
                  <a:srgbClr val="9900ff"/>
                </a:solidFill>
                <a:latin typeface="Verdana"/>
              </a:rPr>
              <a:t>query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" </a:t>
            </a:r>
            <a:r>
              <a:rPr b="1" lang="de-DE" sz="1200" spc="-1" strike="noStrike">
                <a:solidFill>
                  <a:srgbClr val="ff0000"/>
                </a:solidFill>
                <a:latin typeface="Verdana"/>
              </a:rPr>
              <a:t>user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="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&lt;/SEARCH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Suchprovider für Oper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1916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7840" y="1700280"/>
            <a:ext cx="519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xtras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Einstellungen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Suchen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Hinzu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92360" y="2565360"/>
            <a:ext cx="5688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</dc:creator>
  <dc:description/>
  <dc:language>en-US</dc:language>
  <cp:lastModifiedBy>Jan Welker</cp:lastModifiedBy>
  <dcterms:modified xsi:type="dcterms:W3CDTF">2007-01-15T21:09:16Z</dcterms:modified>
  <cp:revision>223</cp:revision>
  <dc:subject/>
  <dc:title>Slide 1</dc:title>
</cp:coreProperties>
</file>