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E7D7-9815-4F17-B077-1CC0EB522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3A01-F9C7-4986-BE3C-DD6971C32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0251-0327-435B-B3AE-597F66D71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1D92-7218-4150-B6A8-10A4BDAF2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5789-4545-43C3-A075-CD4D060E5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633F-D39A-4523-BDA1-05B5027A2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BD3B-2D44-457A-B43E-C6C9460F7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F942-9EC4-4884-8394-0A34CCE41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28E7-6B54-4254-83CE-471368960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B5DD-473B-49AB-9AB9-2DD32BF79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1E77-BDD2-4A86-8154-ECC493A3E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BC2F-5243-44C2-9858-79A231419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82D4-EED7-4577-AC91-FC3EF263F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8410-50A3-4A99-8232-390C53E5C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5F8F-0EF3-4603-96FF-A25A026F3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4E64-0639-41D6-BF25-706CDB975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6D47-AF2F-4DD1-AADA-B62D68408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1181-9D8F-4CE2-B8C1-2517CAA54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6E2C-BFBD-48AF-AD58-757FC6FF9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97CB-7D54-401D-B0BE-E06E8FAE1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56AF-A314-4671-AEEE-F1FA15B25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1B27-AE5B-4FFA-AC14-952346BC0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B375-71A5-4A94-A262-745B85C0B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5F5E-B0FD-47BC-94E1-185AF08E5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499ED-00BC-41D6-BE58-AE413CF5C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E41B-579E-4CDB-AAFD-76BAFF993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33F9-BC28-4EC7-BB22-D5147EB72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erhard.Schlemm@comma-soft.co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crosoft.com/technet/scriptcenter/hubs/msh.mspx" TargetMode="External"/><Relationship Id="rId2" Type="http://schemas.openxmlformats.org/officeDocument/2006/relationships/hyperlink" Target="http://www.microsoft.com/downloads/details.aspx?FamilyID=B4720B00-9A66-430F-BD56-EC48BFCA154F&amp;displaylang=en" TargetMode="External"/><Relationship Id="rId3" Type="http://schemas.openxmlformats.org/officeDocument/2006/relationships/hyperlink" Target="http://msdn2.microsoft.com/en-us/library/bb246658.aspx" TargetMode="External"/><Relationship Id="rId4" Type="http://schemas.openxmlformats.org/officeDocument/2006/relationships/hyperlink" Target="http://thepowershellguy.com/blogs/posh/archive/2007/01/13/powershell-projects-on-codeplex.aspx" TargetMode="External"/><Relationship Id="rId5" Type="http://schemas.openxmlformats.org/officeDocument/2006/relationships/hyperlink" Target="http://www.codeplex.com/PSSharePoint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1642680"/>
            <a:ext cx="8713800" cy="216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9200"/>
                </a:solidFill>
                <a:latin typeface="Verdana"/>
              </a:rPr>
              <a:t>Scripting for the .NET generation</a:t>
            </a:r>
            <a:br>
              <a:rPr sz="2400"/>
            </a:br>
            <a:br>
              <a:rPr sz="3600"/>
            </a:br>
            <a:r>
              <a:rPr b="1" lang="de-DE" sz="4000" spc="-1" strike="noStrike">
                <a:solidFill>
                  <a:srgbClr val="f69200"/>
                </a:solidFill>
                <a:latin typeface="Verdana"/>
              </a:rPr>
              <a:t>Windows PowerShell</a:t>
            </a:r>
            <a:endParaRPr b="1" lang="en-US" sz="40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562640"/>
            <a:ext cx="6400800" cy="13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01.2007 –  Gerhard Schlem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5951520"/>
            <a:ext cx="50007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Gerhard.Schlemm@comma-sof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ritisch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un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ange Startup-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erformance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keine Mess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ost-Kons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"Toleranz" bezüglich Parametern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ab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erfügbarkei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ndows XP, Windows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ehe Windows PowerShell Script Center-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icht mit Windows 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lease-Zyklen wurden entkopp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rd nachgereic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rd demnächst mit  diversen Microsoft-Produkten ausgelief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change Serv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ystem Center VM Manager, Operations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azi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ut durchdacht, "moderne" Fortentwicklung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r Shell in einer objektorientierten W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ckt Anwendungsfä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ür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dministrato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ür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ntwickl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und ist damit gut geeignet, auf Shell-Ebene Software-Produkte zu unterstü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Grafik 3" descr="Architektur.gif"/>
          <p:cNvPicPr/>
          <p:nvPr/>
        </p:nvPicPr>
        <p:blipFill>
          <a:blip r:embed="rId1"/>
          <a:stretch/>
        </p:blipFill>
        <p:spPr>
          <a:xfrm>
            <a:off x="928800" y="1576440"/>
            <a:ext cx="7500960" cy="4618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Übersich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ndows PowerShell Script Center</a:t>
            </a:r>
            <a:br>
              <a:rPr sz="2400"/>
            </a:br>
            <a:r>
              <a:rPr b="0" lang="de-DE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microsoft.com/technet/scriptcenter/hubs/msh.mspx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owerShell Documentation Pack </a:t>
            </a:r>
            <a:r>
              <a:rPr b="0" lang="de-DE" sz="16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microsoft.com/downloads/details.aspx?FamilyID=B4720B00-9A66-430F-BD56-EC48BFCA154F&amp;displaylang=e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SDN</a:t>
            </a:r>
            <a:br>
              <a:rPr sz="2400"/>
            </a:br>
            <a:r>
              <a:rPr b="0" lang="de-DE" sz="16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msdn2.microsoft.com/en-us/library/bb246658.aspx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owerShell bei CodePlex</a:t>
            </a:r>
            <a:br>
              <a:rPr sz="2400"/>
            </a:b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http://thepowershellguy.com/blogs/posh/archive/2007/01/13/powershell-projects-on-codeplex.aspx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harePoint 2003:</a:t>
            </a:r>
            <a:br>
              <a:rPr sz="1800"/>
            </a:b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http://www.codeplex.com/PSSharePoin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PowerShell Community Extensions: http://www.codeplex.com/PowerShellCX/Release/ProjectReleases.asp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ndows SDK</a:t>
            </a:r>
            <a:br>
              <a:rPr sz="24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http://www.microsoft.com/downloads/details.aspx?FamilyId=C2B1E300-F358-4523-B479-F53D234CDCCF&amp;displaylang=en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Etliche Samples in Samples\SysMgmt\WindowsPowerSh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ual Studio Project Template</a:t>
            </a:r>
            <a:br>
              <a:rPr sz="24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http://channel9.msdn.com/ShowPost.aspx?PostID=256835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logs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http://blogs.msdn.com/powershell/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http://thepowershellguy.com/blogs/posh/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00240"/>
            <a:ext cx="822960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rage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ist PowerShell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levator Pitch: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"Scripting for the .NET Generation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ieht zunächst wie eine normale Shell aus,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st aber konsequent auf .NET 2.0 basie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cripting findet stets auf echten .NET-Objekten statt - der Umgang mit diesen Objekten steht dem in kompilierten Code kaum n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llte etwas wie ein Text aussehen: Es ist ein Objekt vom Typ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System.String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auf dem alle Methoden und Eigenschaften zur Verfügung ste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Grafik 3" descr="picture_2_9.png"/>
          <p:cNvPicPr/>
          <p:nvPr/>
        </p:nvPicPr>
        <p:blipFill>
          <a:blip r:embed="rId1"/>
          <a:stretch/>
        </p:blipFill>
        <p:spPr>
          <a:xfrm>
            <a:off x="7151760" y="1488960"/>
            <a:ext cx="113652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I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ipelining von .NET Obje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hells aus der Unix-Welt nehmen Pipelining auf Basis von Texten vor, wodurch "externe" Tools wie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SED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AWK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etc. entstand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owerShell verbindet dieses Pipeline-Prinzip mit objektorientierter Entwick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m Lieferumfang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mfangreicher Satz von Befehlen (Cmdlets), die Pipelining unterstüz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II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ch das ist notwendig: PowerShel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ächtig im Umf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eiten mit Funktionen und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cing und Debugging mög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akt in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lativ schlecht erlern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für gibt es Anwendungsfälle, als Entwickler möchte ich für mein Produkt (Administration, Verwendung) jedoch keine Skripte entwickeln, sonder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mpon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III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md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 .NET-Komponenten gegossene Befehle,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 Pipelining unterstü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nsistente Bene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men von Cmdlets folgen Verb-Noun Prin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men von häufigen Parametern standardisie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6560" indent="-264960">
              <a:lnSpc>
                <a:spcPct val="100000"/>
              </a:lnSpc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Verbose , Debug, ErrorAction, ErrorVariable, OutVariable, OutBuffer,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hat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Conf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365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he 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et-help about_common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hen auch in der PowerShell Language ber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icht erlernb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IV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ktion des Zugriffs auf hierarchische Datenspei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heitlicher Zugriff auf diese Daten üb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tgelieferte Cmdlets (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et-ChildIt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gebaut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77560">
              <a:lnSpc>
                <a:spcPct val="10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eisystem (File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77560">
              <a:lnSpc>
                <a:spcPct val="10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istry (Regis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77560">
              <a:lnSpc>
                <a:spcPct val="10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Lokale) Zertifikate (C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77560">
              <a:lnSpc>
                <a:spcPct val="10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werShell-interne Provid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as, Environment, Function,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V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usammenspiel Cmdlet-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mdlets können Provider-Abstraktion verwenden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m auf Daten zuzugrei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infache Erweiterbar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wicklung eigener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mdle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sehr einf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wicklung eigener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vid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einf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 und natürlich auch durch Definition von Funktionen mit der PowerShel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VI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rchitektur: Runtime und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urch saubere Trennung von Runtime und Host ist PowerShell nicht nur eine Konsole, sondern kann innerhalb anderer Anwendungen eingesetz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npassbar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lias-Konzept für "gewohnte" Befehls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 Ausgabeform (Tabelle, Liste, ...) können anzuzeigenden Eigenschaften ausgewählt und auch Werteformatierung eingestell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oreinstellung per Konfigurationsda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VII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icherheitskonz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ilfe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ilfe für Komponenten (Cmdlets und Provider) werden im MAML-Format ausgeliefert und/oder im Code annot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ost-Kons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passbar (Titel, Prompt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"Toleranz" bezüglich Parametern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abExpansion für Provider-Pfade, Cmdlets (ab "-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Schlemm, Gerhard</cp:lastModifiedBy>
  <dcterms:modified xsi:type="dcterms:W3CDTF">2007-01-23T08:57:10Z</dcterms:modified>
  <cp:revision>589</cp:revision>
  <dc:subject/>
  <dc:title>Slide 1</dc:title>
</cp:coreProperties>
</file>