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05E-5E53-4C01-8EB5-FB0E59E0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B147-7E8C-4930-9862-3270192D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ktion aufzeichnen, in Makro-IDE den Code anschau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, dass Code verloren geht, wenn neues Makro aufgezeichnet w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 könnte den Code woanders hin kopieren (entweder Sub umbenannt im gleichen Modul, oder – sauberer – in neues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Rechte Maustauste -&gt; Kontextmen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r haben aber hier schon ein etwas größeres Beispiel vorbere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Aufruf aus Makro-Explorer hera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n: Makro mit CommandBar verbinden (kennen die meisten aus Off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Makros stehen als Commands zur Verfügung, aber ohne Einfluss auf die Eigenschaften, wie supported,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6C50-23EA-49EC-AD15-5BFC0D56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25D9-CF92-4E6C-B49E-3503A7A2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1EA9-D528-4BEF-BFFA-82F73016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FD76-FE09-4A19-8554-F1CE916A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A48-7446-4604-9564-D0CDAB409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34E8-7D39-4191-B9CA-18AE40612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D135-65B4-44C3-9652-3EDBA6095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1AEB-9F75-4283-A58A-28192A320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FB99-4DE2-4B31-9B7A-3DAF8121F7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9CDD-9535-4055-AEE0-40FDB50A8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964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48392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928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964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4290840"/>
            <a:ext cx="282852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7D14-86BB-4068-B705-B92181959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4B96-F0CD-4A1F-B4E2-17BC9899D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B158-0FB2-43C0-AAA3-69AE97FBA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785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7038-A863-41C9-AF59-F126C2443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35C5F-EB45-4F3B-80A7-DD215D766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29084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24CD-57F6-4A91-B4CC-38D9F04CD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483920"/>
            <a:ext cx="42872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4290840"/>
            <a:ext cx="878544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8246-2BD0-4528-8D3D-5C6B193E2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577-B107-4B88-9EA2-F941EEE39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1.11.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Jens Schaller, Roland Weig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Jens Schaller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Roland 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ff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rundideen 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ufruf von Funktionen einer Anwendung über Code statt über Benutzereingab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möglicht Automatisierung von Abläuf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eicht erlernbares Objektmodell, möglichst analog zur sichtbaren Anwendungsstruktu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ffensichtlich: Ansammlung von Objek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sicht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VisualStudio_TypicalScreen"/>
          <p:cNvPicPr/>
          <p:nvPr/>
        </p:nvPicPr>
        <p:blipFill>
          <a:blip r:embed="rId1"/>
          <a:stretch/>
        </p:blipFill>
        <p:spPr>
          <a:xfrm>
            <a:off x="3059280" y="2274840"/>
            <a:ext cx="5905440" cy="443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2005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059280" y="2492280"/>
            <a:ext cx="5905440" cy="505080"/>
          </a:xfrm>
          <a:prstGeom prst="rect">
            <a:avLst/>
          </a:prstGeom>
          <a:solidFill>
            <a:srgbClr val="ffff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mand B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059280" y="3213000"/>
            <a:ext cx="3744720" cy="2160720"/>
          </a:xfrm>
          <a:prstGeom prst="rect">
            <a:avLst/>
          </a:prstGeom>
          <a:solidFill>
            <a:srgbClr val="cc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ito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877080" y="3068640"/>
            <a:ext cx="2016000" cy="230508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059280" y="5445000"/>
            <a:ext cx="5905440" cy="863640"/>
          </a:xfrm>
          <a:prstGeom prst="rect">
            <a:avLst/>
          </a:prstGeom>
          <a:solidFill>
            <a:srgbClr val="cce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7777080" cy="606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4360" y="1268280"/>
            <a:ext cx="76176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292720" y="3789360"/>
            <a:ext cx="752400" cy="18252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5292720" y="4546440"/>
            <a:ext cx="771480" cy="18756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eht kompliziert aus? Entwarnu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 braucht nicht alles auf einmal zu ke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ige wenige, immer wieder auftauchende Konzept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er Prax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lingt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für mich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interessant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s kann ich </a:t>
            </a:r>
            <a:r>
              <a:rPr b="0" i="1" lang="de-DE" sz="2600" spc="-1" strike="noStrike">
                <a:solidFill>
                  <a:srgbClr val="000000"/>
                </a:solidFill>
                <a:latin typeface="Tahoma"/>
              </a:rPr>
              <a:t>jetzt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brauch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eles unabhängig voneina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sicht auf der MSDN Webs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msdn2.microsoft.com/en-us/library/za2b25t3(VS.80).asp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TE (bzw. DTE2) ist das Root-Obje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runter: Documents-Coll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59864" t="50702" r="15432" b="36821"/>
          <a:stretch/>
        </p:blipFill>
        <p:spPr>
          <a:xfrm>
            <a:off x="1116000" y="3300480"/>
            <a:ext cx="5815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ere interessante Beispie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olutions und Projek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olu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jectI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Sprachelemente in Quellcode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FileCodeMode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Variab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deFunc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Tool-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Command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TaskLis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OutputWindow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ugriff auf den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Debugg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ces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StackFram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 Object Mod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Guter Einstieg: Mit dem Debugger reinschau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Projekt laden und einfach "rumstochern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auch wenn man nicht alles auf Anhieb sieht, weil hier und da ein Cast notwendig 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m schnellsten und einfachsten geht es mit dem Debugger für VBA-Code in der "Macros-IDE"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astaturmakro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ange Geschichte, bereits in frühen Texteditor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gedrückten Tast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kro = Abfolge von Funktionsaufruf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 Unterschied zwischen "Live-Aufzeichnung" und geschriebenem Programmcod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leichtert dadurch, dass es für nahezu jede Aktion in der Anwendung eine entsprechende Funktion gibt. Genauer: Ein </a:t>
            </a: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Comm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: Konzept eines "Dings", das 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ein Stück Arbeit verrichte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xecut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aktuellen Zustand des System überhaupt Sinn mach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isibl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..."weiss", ob es im gerade im Moment ausführbar ist (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Enable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ispiel: File.SaveSelectedI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nmer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arum die Vorsicht, "Objekt" zu sagen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il die Implementation nicht notwendigerweise über Objekte erfolgen braucht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blick: Visual Studio anpassen/erwei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 kommen Commands h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d... Mac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mands selbst sind nicht sichtb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ie erhalten ihr User Interface über Elemente von Command Bars (Menüeinträge, Icons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n Command kann mit beliebig vielen UI-Elemente verbunden sein (z.B. "File-Save"-Eintrag, Disk-Ic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knüpfung mit GUI-Eleme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reeform 4"/>
          <p:cNvSpPr/>
          <p:nvPr/>
        </p:nvSpPr>
        <p:spPr>
          <a:xfrm>
            <a:off x="826920" y="2349360"/>
            <a:ext cx="2159280" cy="2016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69840" y="2349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a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trl-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Exit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b2b2b2"/>
                </a:solidFill>
                <a:latin typeface="Tahoma"/>
              </a:rPr>
              <a:t>Alt-F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5292720" y="2421000"/>
            <a:ext cx="2879640" cy="1368360"/>
          </a:xfrm>
          <a:prstGeom prst="rect">
            <a:avLst/>
          </a:prstGeom>
          <a:gradFill rotWithShape="0">
            <a:gsLst>
              <a:gs pos="0">
                <a:srgbClr val="c5dff7"/>
              </a:gs>
              <a:gs pos="100000">
                <a:srgbClr val="6f94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5292720" y="3789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5292720" y="24210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012000" y="2565360"/>
            <a:ext cx="1152360" cy="1079640"/>
          </a:xfrm>
          <a:prstGeom prst="rect">
            <a:avLst/>
          </a:prstGeom>
          <a:gradFill rotWithShape="0">
            <a:gsLst>
              <a:gs pos="0">
                <a:srgbClr val="6464b1"/>
              </a:gs>
              <a:gs pos="100000">
                <a:srgbClr val="333399"/>
              </a:gs>
            </a:gsLst>
            <a:lin ang="2700000"/>
          </a:gra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156360" y="2565360"/>
            <a:ext cx="863640" cy="4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300720" y="3284640"/>
            <a:ext cx="576360" cy="360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300720" y="270828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300720" y="2852640"/>
            <a:ext cx="5763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3276720" y="5734080"/>
            <a:ext cx="3671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a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ile.SaveSelected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843280" y="3357720"/>
            <a:ext cx="1873080" cy="230328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5076360" y="3716280"/>
            <a:ext cx="1366920" cy="194472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7020000" y="57340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Vi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- Enab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nell und einfach zu 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rundgerüst kann über Makro-Rekorder aufgezeichne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it reichende Kontrolle über die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hlechte Perform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"echte" Erweiterung der IDE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ur VB-Syntax ("VBA.Net") mögli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akros vs 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erformance-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öglichkeit zur Erstellung v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"echten" Programmiersprac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Managed Code (C#, VB.Net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 diesem Vortrag: Managed 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nimales Add-in: Implementation von IDTExtensibility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AddInsUpd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BeginShut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Disconne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StartupComple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Commands: IDTCommand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e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eryStatu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XML-Datei in speziellem Verzeich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ateiendung .ad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heorie: Diverse Verzeichnisse (s. Tools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Option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plus weitere, eige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6080" indent="-33516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raxis: Drei relevante Verzeichni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y Documents\VisualStudio 2005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\</a:t>
            </a:r>
            <a:r>
              <a:rPr b="0" lang="de-DE" sz="2400" spc="-1" strike="noStrike">
                <a:solidFill>
                  <a:srgbClr val="0000ff"/>
                </a:solidFill>
                <a:latin typeface="Tahoma"/>
              </a:rPr>
              <a:t>&lt;user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\Application Data\MSEnvShared\Add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23320" indent="-26028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&lt;user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 All Users oder &lt;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rNam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0600" indent="-26172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3" descr="AddInFolders.png"/>
          <p:cNvPicPr/>
          <p:nvPr/>
        </p:nvPicPr>
        <p:blipFill>
          <a:blip r:embed="rId1"/>
          <a:stretch/>
        </p:blipFill>
        <p:spPr>
          <a:xfrm>
            <a:off x="1143000" y="3181320"/>
            <a:ext cx="3781440" cy="96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anpass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Persönliche Vorlieben für Farben, Schriftarten, Fensteranordnung, etc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Unterschiedliche Anforderungen je nach Arbeitsschwerpunk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isual Studio enthält mehr Features, als sinnvoll gleichzeitig in der GUI dargestellt werden könne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: Registri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.addin-Datei enthält Informationen ü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nzeigena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urzbeschreibu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o liegt die Add-in Assembl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Welche .NET Klasse implementiert IDTExtensibility2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.addin fil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?xml version="1.0" encoding="UTF-16" standalone="no"?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Extensibility xmlns="http://schemas.microsoft.com/AutomationExtensibility"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Name&gt;Microsoft Visual Studio&lt;/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Version&gt;8.0&lt;/Vers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HostApplica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riendlyName&gt;...&lt;/Friendly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Description&gt;...&lt;/Descriptio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BoxDetails&gt;...&lt;/AboutBoxDetail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boutIconData&gt;...&lt;/AboutIconData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Assembly&gt;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yAddInAssembly.dll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ssembl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FullClassName&gt;MyAddIn.MainClass&lt;/FullClassNam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LoadBehavior&gt;0&lt;/LoadBehavio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Preload&gt;1&lt;/CommandPrelo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CommandLineSafe&gt;1&lt;/CommandLineSaf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Addin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&lt;/Extensibilit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2 grundlegende Fensterarten in der IDE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Editoren, Des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Tool Window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rkzeuge, Anzeige von Informatione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s: Nur Tool 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Document Windows: VSPack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osting des ToolWindows incl. Docking, etc. wird komplett von Visual Studio übernom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dd-in Entwickler muss nur für Inhalt sor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halt: WinForms User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3" descr="AddInToolWindow.png"/>
          <p:cNvPicPr/>
          <p:nvPr/>
        </p:nvPicPr>
        <p:blipFill>
          <a:blip r:embed="rId1"/>
          <a:stretch/>
        </p:blipFill>
        <p:spPr>
          <a:xfrm>
            <a:off x="4643280" y="3857760"/>
            <a:ext cx="3981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 - ToolWindow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ndows.CreateToolWindow2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rstellt ein ToolWindow und liefert ein Objekt vom Typ des UserControls zurüc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SetTabPicture(.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etzt das Icon, das im gedockten Zustand angezeig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yToolWindow.Visible = tr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zeigt das ToolWindow a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solute vs. relative Pfade in der .addin-Dat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absolut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npassung der .addin-Datei notwendig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tomatisiert nur mit MSI Installer-Klas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ahoma"/>
              </a:rPr>
              <a:t>relativ: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auf den ersten Blick praktische Sache, aber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rsicht wenn Add-in-Assembly irgendwo unterhalb von Documents and Settings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&amp;S auf Netzwerkshar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robleme mit Securit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Fallstrick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Windows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ddin-Pfade nur teilweise lokalisiert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 ApplicationData englisc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in SP1 gefixt, d.h. komplett lokalisie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Beide Varianten berücksichtigen!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ternationale Visual Studio Vers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ehler in generiertem C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ultureInfo.Name statt TwoLetterI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400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cope für Tastenbelegung nicht einheitlich</a:t>
            </a:r>
            <a:br>
              <a:rPr sz="2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eblogs.asp.net/rweigelt/archive/2006/07/16/458634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dd-ins: 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chon etwas komplizierter als 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Aber: Add-ins ohne "professionelles" Setup relativ schnell geschrieb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utlich weiter reichende Kontrolle über 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Keine neuen Dokumenttypen, Editoren, Design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rchitektur: MSDN unter dem Stichwort "Visual Studio Environment Model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um erweiter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notwendige Funktion ist vorhersehb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Nicht jede denkbare Funktion kann implementi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als Plat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weiterer Programmiersprach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Iron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von komplexen Tool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Platform Builder für Windows CE 6.0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um Erzeugen von spezialisierten OS-Version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le Möglichkeiten von Makros und Add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sätz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Dokumen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Projekttyp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Integration eigener Programmiersprachen, Source Control Provider, Debugg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igene Seiten in Project Proper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"The Sky is the Limit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ntwick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: Managed oder Unmanag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Empfehlung: Managed über Visual Studio SD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erwendung: PLK (Package Load Key) notwendig für Betrieb ohne installiertes Visual Studio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gibt es kostenlos über VSI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– Visual Studio SD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ownload kosten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istrierung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VSIP (Visual Studio Industrial Partner) Affiliate Level </a:t>
            </a:r>
            <a:r>
              <a:rPr b="0" lang="de-DE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 Zugriff auf CT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hr viele Beispi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ference Samples sehr gut und ausführlich dokumentiert (mehr Doku als Cod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IronPythonIntegration" ist das größte und vollständigste Beispi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++ muss für einige Samples installiert sein, weil der Pre-Processor verwendet wi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ampleBrowser ist ein guter Einstie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Erstell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sual Studio 2005 Wiz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Other Project Types -&gt; Extensibi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Integration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sis Implementierung eines Pack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Language Pac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tellung einer eigenen Sprache unter Verwendung des Babel Languag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ror Ma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tement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4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Debu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 Debugging-Zwecken wird ein neuer Registry-Hive erstel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HKLM\Software\Microsoft\VisualStudio\8.0Ex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Zum Debuggen in den Project-Properties die folgenden Einstellungen eintra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mand line arguments: "/roofsuffix Exp"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Start external program : "Pfad zu devenv.exe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4" descr="VSPackageDebugging.png"/>
          <p:cNvPicPr/>
          <p:nvPr/>
        </p:nvPicPr>
        <p:blipFill>
          <a:blip r:embed="rId1"/>
          <a:stretch/>
        </p:blipFill>
        <p:spPr>
          <a:xfrm>
            <a:off x="1785960" y="4786200"/>
            <a:ext cx="5667480" cy="18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SPackages - 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nstallation am Besten über VS Deployment Project (MSI-Install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SPackage wird mit Hilfe eines SDK-Tools (regpkg.exe) registr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Liegt unter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…\Visual Studio 2005 SDK\2006.11\VisualStudioIntegration\Tools\B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regpkg.exe darf nicht mit ausgeliefert werd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601"/>
              </a:spcBef>
              <a:buClr>
                <a:srgbClr val="f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Parameter /regfile können die Registrierinformationen in ein Regstry File geschrieben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nfache Automatisierung der IDE, sichtbarer SourceCode kein Problem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Mak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ntwicklung in höherer Programmiersprache, Automation Model ausreichend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dd-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igene Projekttypen, Editoren, Designer Debugger, Sprachen, etc.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VSPack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Extensibility Webca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Develope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msdn.microsoft.com/vstudio/extend/webcasts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Studio 2005 SD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7E0FDD66-698A-4E6A-B373-BD0642847AB7&amp;displaylang=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. Ex's Weblo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blogs.msdn.com/dr._ex/default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IP Members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affiliate.vsipmembers.com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Vielzahl von Möglichk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anpassen/erweiter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emen in diesem Vort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187280" y="3573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a8d27e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4067280" y="479736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dbafdb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547640" y="4581360"/>
            <a:ext cx="201636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2e5"/>
              </a:gs>
              <a:gs pos="100000">
                <a:srgbClr val="ffcc99"/>
              </a:gs>
            </a:gsLst>
            <a:lin ang="27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6372360" y="2708280"/>
            <a:ext cx="2016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924360" y="335772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cc"/>
              </a:gs>
              <a:gs pos="100000">
                <a:srgbClr val="51caa2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em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804000" y="4724280"/>
            <a:ext cx="201600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c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2627280" y="5877000"/>
            <a:ext cx="2016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c2c29b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6588000" y="5445000"/>
            <a:ext cx="201636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f2ff"/>
              </a:gs>
              <a:gs pos="100000">
                <a:srgbClr val="99ccff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er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1403280" y="2276640"/>
            <a:ext cx="201636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lin ang="2700000"/>
          </a:gradFill>
          <a:ln w="3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on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6300720" y="1989000"/>
            <a:ext cx="2664000" cy="45356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564000" y="3213000"/>
            <a:ext cx="2663640" cy="11527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195640" y="5705640"/>
            <a:ext cx="2663640" cy="963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042920" y="2133720"/>
            <a:ext cx="2664000" cy="1152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keiten zur Erweiter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0" y="1579680"/>
            <a:ext cx="6778800" cy="5175000"/>
          </a:xfrm>
          <a:prstGeom prst="rect">
            <a:avLst/>
          </a:prstGeom>
          <a:ln w="0">
            <a:noFill/>
          </a:ln>
        </p:spPr>
      </p:pic>
      <p:pic>
        <p:nvPicPr>
          <p:cNvPr id="130" name="Up Arrow 4" descr=""/>
          <p:cNvPicPr/>
          <p:nvPr/>
        </p:nvPicPr>
        <p:blipFill>
          <a:blip r:embed="rId2"/>
          <a:stretch/>
        </p:blipFill>
        <p:spPr>
          <a:xfrm>
            <a:off x="438120" y="2036880"/>
            <a:ext cx="695520" cy="4681440"/>
          </a:xfrm>
          <a:prstGeom prst="rect">
            <a:avLst/>
          </a:prstGeom>
          <a:ln w="0">
            <a:noFill/>
          </a:ln>
        </p:spPr>
      </p:pic>
      <p:pic>
        <p:nvPicPr>
          <p:cNvPr id="131" name="Up Arrow 5" descr=""/>
          <p:cNvPicPr/>
          <p:nvPr/>
        </p:nvPicPr>
        <p:blipFill>
          <a:blip r:embed="rId3"/>
          <a:stretch/>
        </p:blipFill>
        <p:spPr>
          <a:xfrm>
            <a:off x="7869240" y="2036880"/>
            <a:ext cx="695160" cy="4681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/>
          <p:cNvSpPr/>
          <p:nvPr/>
        </p:nvSpPr>
        <p:spPr>
          <a:xfrm>
            <a:off x="5364000" y="1628640"/>
            <a:ext cx="360360" cy="374508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78544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Extensibilit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enn wir eine Anwendung erweitern wollen, brauchen wir auch Zugriff auf die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 historischen Gründen: </a:t>
            </a:r>
            <a:r>
              <a:rPr b="1" lang="de-DE" sz="3200" spc="-1" strike="noStrike">
                <a:solidFill>
                  <a:srgbClr val="000000"/>
                </a:solidFill>
                <a:latin typeface="Tahom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Von Office bekannt (Excel, Word, ...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COM-basier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64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ahoma"/>
              </a:rPr>
              <a:t>Für Visual Studio .NET 2002 wurde viel Code von Office übernommen (sichtbar: Menü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772400" cy="7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tom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;Jens Schaller</dc:creator>
  <dc:description/>
  <dc:language>en-US</dc:language>
  <cp:lastModifiedBy>Roland Weigelt</cp:lastModifiedBy>
  <dcterms:modified xsi:type="dcterms:W3CDTF">2006-11-29T20:32:58Z</dcterms:modified>
  <cp:revision>497</cp:revision>
  <dc:subject/>
  <dc:title>Slide 1</dc:title>
</cp:coreProperties>
</file>