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8C15-215F-4127-B027-82404B8FB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24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3211-ECED-4F1B-97CE-C4CC664A4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24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7B91-9AB4-4DDC-80AF-DE3C63AC5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24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DEEE-298E-48BE-986B-389D18B89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FFA9B-1252-4E13-8AFC-40724133D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24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E0B06-077A-45B4-8306-3F6C7865C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24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93462-B42B-4BEA-B632-8409FB780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24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AE7B7-9688-4293-89C2-05F674F05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24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55296-B602-460E-BD6C-FC0A00020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76C36-7A5B-43B5-9F32-358D53B97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24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CE2B0-9448-4402-8986-EDB1BAF02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24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A96A-7BA1-42A6-878E-ADBE67C10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24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26F1A-38C2-4315-818E-972838EB4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24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61E79-878D-4D0E-9C22-F2E446520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24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6A649-6ED0-4E56-80C2-DD0A32A0F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24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B9763-CE2F-4C19-BBBA-B9D492713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24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1B24E-3902-4D5A-B58A-2AFAFCB74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24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B38F-601F-4B1E-ADBE-F277CDF83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24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611A-87D5-445E-BF6C-EDDD2A928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24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C9B5-49AA-40C2-8448-128845C2C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0768-FAEA-4E68-B1B5-E9C25771F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24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ED3A-5D2D-453B-9756-EFBABBFD3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24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720C-DCB2-4694-B855-248AB34CA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24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5A37-FEEF-43D8-827F-3B3B2C53D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74AC3-BC35-418C-AA98-B1F5889CDE90}" type="slidenum">
              <a:rPr b="0" lang="de-DE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9774F-E57D-4D22-9EED-F171B4532C8E}" type="slidenum">
              <a:rPr b="0" lang="de-DE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tefan@lieser-online.de" TargetMode="External"/><Relationship Id="rId2" Type="http://schemas.openxmlformats.org/officeDocument/2006/relationships/hyperlink" Target="mailto:stefan@lieser-online.de" TargetMode="External"/><Relationship Id="rId3" Type="http://schemas.openxmlformats.org/officeDocument/2006/relationships/hyperlink" Target="mailto:stefan@lieser-online.de" TargetMode="External"/><Relationship Id="rId4" Type="http://schemas.openxmlformats.org/officeDocument/2006/relationships/hyperlink" Target="mailto:stefan@lieser-online.de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660066"/>
                </a:solidFill>
                <a:latin typeface="Tahoma"/>
              </a:rPr>
              <a:t>JetBrains ReSharper 2.0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40458c"/>
                </a:solidFill>
                <a:latin typeface="Tahoma"/>
              </a:rPr>
              <a:t>Stefan Lieser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58c"/>
                </a:solidFill>
                <a:latin typeface="Tahoma"/>
              </a:rPr>
              <a:t>Email: </a:t>
            </a:r>
            <a:r>
              <a:rPr b="0" lang="de-DE" sz="2400" spc="-1" strike="noStrike" u="sng">
                <a:solidFill>
                  <a:srgbClr val="6f89f7"/>
                </a:solidFill>
                <a:uFillTx/>
                <a:latin typeface="Tahoma"/>
                <a:hlinkClick r:id="rId1"/>
              </a:rPr>
              <a:t>stefan</a:t>
            </a:r>
            <a:r>
              <a:rPr b="0" lang="de-DE" sz="24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@</a:t>
            </a:r>
            <a:r>
              <a:rPr b="0" lang="de-DE" sz="24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lieser</a:t>
            </a:r>
            <a:r>
              <a:rPr b="0" lang="de-DE" sz="24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-online.d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58c"/>
                </a:solidFill>
                <a:latin typeface="Tahoma"/>
              </a:rPr>
              <a:t>Web: www.lieser-online.d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0" name="resharper" descr=""/>
          <p:cNvPicPr/>
          <p:nvPr/>
        </p:nvPicPr>
        <p:blipFill>
          <a:blip r:embed="rId5"/>
          <a:stretch/>
        </p:blipFill>
        <p:spPr>
          <a:xfrm>
            <a:off x="990720" y="914400"/>
            <a:ext cx="245736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660066"/>
                </a:solidFill>
                <a:latin typeface="Tahoma"/>
              </a:rPr>
              <a:t>Unit Test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Unit Test Runn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58c"/>
                </a:solidFill>
                <a:latin typeface="Tahoma"/>
              </a:rPr>
              <a:t>Einzelnen Tes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58c"/>
                </a:solidFill>
                <a:latin typeface="Tahoma"/>
              </a:rPr>
              <a:t>TestFixture Klass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58c"/>
                </a:solidFill>
                <a:latin typeface="Tahoma"/>
              </a:rPr>
              <a:t>Alle Tests eines Projekt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58c"/>
                </a:solidFill>
                <a:latin typeface="Tahoma"/>
              </a:rPr>
              <a:t>Alle Tests einer Solut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Tests werden am linken Rand markiert und können von dort gestartet werde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Tests können im Debugger gestartet werde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JetBrains dotTrace Profiler Unterstützu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660066"/>
                </a:solidFill>
                <a:latin typeface="Tahoma"/>
              </a:rPr>
              <a:t>ASP.NET Unterstützu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Alle Features funktionieren auch in „ASP.NET Dateien“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660066"/>
                </a:solidFill>
                <a:latin typeface="Tahoma"/>
              </a:rPr>
              <a:t>MSBuild / NAnt Unterstützu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Error highlight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Code comple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Quick fix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Rename Refactor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Navigation and Search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File structure view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660066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Featur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Error Highlighting und Quick-Fix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Advanced Coding Assistan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Refactoring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Navigation und Such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Unit Test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ASP.NET Unterstützu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MSBuild / NAnt Unterstützu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Erweiterbar durch Open API (Plugins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3822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660066"/>
                </a:solidFill>
                <a:latin typeface="Tahoma"/>
              </a:rPr>
              <a:t>Error Highlighting und Quick-Fixe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On-the-fly error check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Warnunge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58c"/>
                </a:solidFill>
                <a:latin typeface="Tahoma"/>
              </a:rPr>
              <a:t>Dead cod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58c"/>
                </a:solidFill>
                <a:latin typeface="Tahoma"/>
              </a:rPr>
              <a:t>Überflüssige using Anweisunge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58c"/>
                </a:solidFill>
                <a:latin typeface="Tahoma"/>
              </a:rPr>
              <a:t>Überflüssige overrid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Quick fix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58c"/>
                </a:solidFill>
                <a:latin typeface="Tahoma"/>
              </a:rPr>
              <a:t>Alt-Ente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Status Indicato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Navigation in Fehlern und Warnunge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58c"/>
                </a:solidFill>
                <a:latin typeface="Tahoma"/>
              </a:rPr>
              <a:t>F12 / Shift-F12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Auto Insertion fehlender </a:t>
            </a:r>
            <a:r>
              <a:rPr b="0" lang="de-DE" sz="2800" spc="-1" strike="noStrike">
                <a:solidFill>
                  <a:srgbClr val="40458c"/>
                </a:solidFill>
                <a:latin typeface="Courier New"/>
              </a:rPr>
              <a:t>using</a:t>
            </a: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 Direktive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660066"/>
                </a:solidFill>
                <a:latin typeface="Tahoma"/>
              </a:rPr>
              <a:t>Advanced Coding Assistan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Code comple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58c"/>
                </a:solidFill>
                <a:latin typeface="Tahoma"/>
              </a:rPr>
              <a:t>Live-Search beim Tippe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58c"/>
                </a:solidFill>
                <a:latin typeface="Tahoma"/>
              </a:rPr>
              <a:t>Klammern für Methodenaufruf werden ergänz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58c"/>
                </a:solidFill>
                <a:latin typeface="Tahoma"/>
              </a:rPr>
              <a:t>Bezeichner werden automatisch gebilde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Context Action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58c"/>
                </a:solidFill>
                <a:latin typeface="Tahoma"/>
              </a:rPr>
              <a:t>Use string.forma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58c"/>
                </a:solidFill>
                <a:latin typeface="Tahoma"/>
              </a:rPr>
              <a:t>Convert 'If' to conditiona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Quick Documentation Lookup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Parameter Inf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Bracket Match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Auto Insertion von Klammern etc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660066"/>
                </a:solidFill>
                <a:latin typeface="Tahoma"/>
              </a:rPr>
              <a:t>Advanced Coding Assistan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Code Gener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Constructo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Properti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Implement interface memb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Override inherited memb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Delegating member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Equals und GetHashCod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Live Templat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Reformat Cod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660066"/>
                </a:solidFill>
                <a:latin typeface="Tahoma"/>
              </a:rPr>
              <a:t>Refactoring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Rename (F2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Encapsulate Fiel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Extract Method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Move Typ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To outer scop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To another typ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Copy Typ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Pull members up, Push members dow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660066"/>
                </a:solidFill>
                <a:latin typeface="Tahoma"/>
              </a:rPr>
              <a:t>Refactoring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Change method signatur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Introduce Variable/Parameter/Fiel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Extract Interface/Superclas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Extract class from method paramet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Make method static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Move static memb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131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Method to Property/Property to Method(s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1312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Convert abstract class to interfa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660066"/>
                </a:solidFill>
                <a:latin typeface="Tahoma"/>
              </a:rPr>
              <a:t>Navigation und Such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Go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58c"/>
                </a:solidFill>
                <a:latin typeface="Tahoma"/>
              </a:rPr>
              <a:t>Type (Ctrl-N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58c"/>
                </a:solidFill>
                <a:latin typeface="Tahoma"/>
              </a:rPr>
              <a:t>File (Ctrl-Shift-N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58c"/>
                </a:solidFill>
                <a:latin typeface="Tahoma"/>
              </a:rPr>
              <a:t>Declaration (Ctrl-B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58c"/>
                </a:solidFill>
                <a:latin typeface="Tahoma"/>
              </a:rPr>
              <a:t>Type declaration (Ctrl-Shift-T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58c"/>
                </a:solidFill>
                <a:latin typeface="Tahoma"/>
              </a:rPr>
              <a:t>Base (Ctrl-U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58c"/>
                </a:solidFill>
                <a:latin typeface="Tahoma"/>
              </a:rPr>
              <a:t>Inheritor (Ctrl-Alt-B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58c"/>
                </a:solidFill>
                <a:latin typeface="Tahoma"/>
              </a:rPr>
              <a:t>Usage (Ctrl-Alt-F7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Highlight Usage (Ctrl-Shift-F7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Show Class Members (Ctrl-F12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660066"/>
                </a:solidFill>
                <a:latin typeface="Tahoma"/>
              </a:rPr>
              <a:t>Navigation und Such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Stack Trace Explorer (Ctrl-Shift-E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Stack Trace aus der Zwischenablag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Filepositionen über Links navigierba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File Structure View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Ideal zum Umordnen innerhalb einer Klass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Unterstützt #reg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Type Hierarchy View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tefan Lieser</cp:lastModifiedBy>
  <dcterms:modified xsi:type="dcterms:W3CDTF">2006-09-12T13:50:34Z</dcterms:modified>
  <cp:revision>29</cp:revision>
  <dc:subject/>
  <dc:title>PowerPoint Presentation</dc:title>
</cp:coreProperties>
</file>