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08AA-13EA-4957-9A15-C959E5E68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paar Worte vorw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Vortrag ist im Rahmen einer Evaluierung entstanden und stützt sich nicht auf intensive Praxiserfah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e Punkte wurde nur der Vollständigkeit halber aus der Doku aufgen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9E00-4A6D-4CD3-A9D1-3995A739C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B957-65AA-47D8-A7ED-99ABA80DB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6833-0082-4123-A56F-456EBF8F3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4BC3-98AA-4A86-BF6E-89F91A81F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1550-ACC5-41CD-AE88-3031E8510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C6AF-5E53-4E23-9A4A-6926BBA24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613E-6938-41BF-BC30-870D5D678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2E9B-1E72-4159-B6F1-2C0995679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B878-1693-4054-BA21-FA51C818B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83AE-9802-4B58-AEB3-C7B50FB94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66BF-6B5E-43AA-8748-D7EF60A60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D086-3743-4308-BC62-2053C512B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737C-0B3B-429B-8295-C09B45373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racle.com/technology/pub/articles/mastering_dotnet_oracle/williams_sps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31102.aspx" TargetMode="External"/><Relationship Id="rId2" Type="http://schemas.openxmlformats.org/officeDocument/2006/relationships/hyperlink" Target="http://msdn2.microsoft.com/en-us/library/ms131102.aspx" TargetMode="External"/><Relationship Id="rId3" Type="http://schemas.openxmlformats.org/officeDocument/2006/relationships/hyperlink" Target="http://msdn2.microsoft.com/en-us/library/ms131102.aspx" TargetMode="External"/><Relationship Id="rId4" Type="http://schemas.openxmlformats.org/officeDocument/2006/relationships/hyperlink" Target="http://msdn.microsoft.com/sql/learning/prog/clr/default.aspx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LR Integration im 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SQL Server 2005 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2.09.2006 –  Sascha Leh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ascha.Lehmann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model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enbankoptio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cherheitsmodel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allem wacht die Code Access Secur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ben Machine- und User Policy nun auch noch Host Policy je Assembly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ies können in drei Modellen registr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r interne Berechnungen, Zugriff auf lokale Da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in State, kein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tatic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RNAL_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externe Ressourcen wie Dateien, Registry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unmanaged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LR Integration muss explizit pro Server Instanz aktivi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p_configure 'clr enabled',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configur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 Assemblies können vom Client aus im Server installiert werd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REATE ASSEMBLY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 für Assemblies mit Permission Set EXTERNAL_ACCESS bzw. UNSA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wner benötigt External / Unsafe Assembly Permi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ahoma"/>
              </a:rPr>
              <a:t>ALTER DATABASE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sz="1400" spc="-1" strike="noStrike">
                <a:solidFill>
                  <a:srgbClr val="000000"/>
                </a:solidFill>
                <a:latin typeface="Tahoma"/>
              </a:rPr>
              <a:t> SET TRUSTWORTHY ON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rrelation zwischen SQL Server Integration und den in .NET 2.0 hinzugekommenen Hosting AP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racl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und DB/2 bieten ebenfalls CLR Integ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QL Server 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Books</a:t>
            </a: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MSDN Onli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heißt CLR Integra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nutzerdefinierter Code kann nun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anaged Co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t werd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 umfasst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ored Procedur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gger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Datentyp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Funktionen (skalar und tabellenwerti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utzerdefinierte Aggregationsfunk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orte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teile von managed Code gegenüber T-SQL bzw. Extended Stored Procedure in native C(++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Programmierspr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wohnt mächtige Entwicklungsumgeb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ilweise deutlich besse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chere Laufzeitumgebung (Sandbo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öglichkeit Aggregationsfunktionen zu definie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1: Modulo2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den Rest einer Division durch 2 berechn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turn (i % 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 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ahoma"/>
              </a:rPr>
              <a:t>Select * from Numbers where dbo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ulo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d) =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 Demo 1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ype „Database/SQL Server Projec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d User-Defined Fun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pl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# Syntax für UDF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plementierung einer Funktion, die einen kommaseparierten String in eine Tabelle zerleg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C#: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ring.Split(','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lect * From SplitCSString('A;B;C;D') lief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956720" y="3141720"/>
            <a:ext cx="8190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2: SplitCSStr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le Valued Function (TVF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atik Datentyp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taAccessKind.Rea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ext-Conn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 UDF bisher leider nicht innerhalb der FillRow-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erforman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einem 3 GHz Rechner wurden folgende Werte gemess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verhead pro Aufruf (Modulo2) &lt; 1 µ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litCSString gegen T-SQL Variante 200 ms statt 18 sec bei 120k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3: Event Log as Tab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Event-Log des lokalen Rechners als Tabelle ausgeben. (Bsp. aus SQL Books On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ascha Lehmann</cp:lastModifiedBy>
  <dcterms:modified xsi:type="dcterms:W3CDTF">2006-09-11T19:44:19Z</dcterms:modified>
  <cp:revision>238</cp:revision>
  <dc:subject/>
  <dc:title>Slide 1</dc:title>
</cp:coreProperties>
</file>