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A7DD-DF59-4604-A7CE-4EFF84877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5C09-3B0C-4073-BE89-42C4D955F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DA7C-7B64-45E4-BC53-001C6FF9A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18B6-A5B1-428F-AA30-6410B309E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133D-1A91-4B06-81D1-C132FCA4E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67C1-917D-4830-A44E-97DEA0FB8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382F-BFEB-4BAE-9C02-7D10A1D48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7E6D-6F2F-4AA6-B963-3A5853929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2CB9-4094-4EA4-9301-592E138AC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50B6-45B3-45FF-9B3C-E7732B34D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9DA6-5D0D-4645-9EE5-AE6D7BFA5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BF0C-3FF8-4C21-965F-B74D52F7F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A404-3A05-4CC0-A649-F742641EA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tact@jens-schaller.de" TargetMode="External"/><Relationship Id="rId2" Type="http://schemas.openxmlformats.org/officeDocument/2006/relationships/hyperlink" Target="http://jens-schaller.de/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deproject.com/macro/collapseall.a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 Tip: „Collapse all“ Makr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contact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292428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Größere Solutions werden im ausgeklappten Zustand schnell unübersichtlic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628640"/>
          <a:ext cx="17398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1739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llapseAl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.B. Ctrl-ä -&gt; Col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„CollapseAll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tkeys bele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ownload: </a:t>
            </a:r>
            <a:r>
              <a:rPr b="1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odeproject.com/macro/collapseall.as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ens Schaller</cp:lastModifiedBy>
  <dcterms:modified xsi:type="dcterms:W3CDTF">2006-07-17T20:33:20Z</dcterms:modified>
  <cp:revision>221</cp:revision>
  <dc:subject/>
  <dc:title>Slide 1</dc:title>
</cp:coreProperties>
</file>