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BBC7-CC80-436E-9B88-46160D42D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81A0-D0AD-49DF-9A07-1915B0932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9B2C-D844-4D72-A327-5DAB5959C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C487-92A8-463F-AF25-BA785C77F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3E3B-66C5-465E-8F43-3A1A6EF1B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B6CD-0644-4276-9A6E-7EECB6FD9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F2E6-073F-4279-8DE4-2B5F388391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D7EA-A48E-4D7D-A14E-5DD335692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48156-18BA-480D-B011-AEBC43E13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7CF3-D51B-4159-8063-C7BB48BB3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2A87-4AB6-434E-B764-32B066918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01C9E-23F1-403C-B5FF-18B89E72B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E482-FD37-4E66-99C4-FE864CD21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channel9.msdn.com/wiki/default.aspx/MSBuild.HomePage" TargetMode="External"/><Relationship Id="rId2" Type="http://schemas.openxmlformats.org/officeDocument/2006/relationships/hyperlink" Target="http://msdn2.microsoft.com/en-us/library/0k6kkbsd.aspx" TargetMode="External"/><Relationship Id="rId3" Type="http://schemas.openxmlformats.org/officeDocument/2006/relationships/hyperlink" Target="http://lab.msdn.microsoft.com/vs2005/teams/msbuild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inführung in</a:t>
            </a:r>
            <a:br>
              <a:rPr sz="3200"/>
            </a:b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 Build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8.07.2006 –  Ralf Kar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Targe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Projekt muß mindestens 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habe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ist die Klammer für meherer Aufgaben (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s)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im Aufruf von msbuild kann per Commandline das Target angegeben werden (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/target:Clean;Build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Aufgabe1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&lt;!-- Tasks !--&gt;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Projekt kann ein Attribut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DefaultTarget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definieren, dass alle Targets beinhaltet, die ausgeführt werden, wenn kein Target auf der Commandline angegeben wird.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Projec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xmln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="http://schemas.microsoft.com/developer/msbuild/2003"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DefaultTarget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= "target1;target2"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Tas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ist eine Aufgabe, die MS Build erledigen soll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an kann sowohl auf "eingebaute" als auch auf selbst- bzw. fremdentwickelte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zurückgreif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"CreateReleaseDirectories"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MakeDir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200" spc="-1" strike="noStrike">
                <a:solidFill>
                  <a:srgbClr val="ff3300"/>
                </a:solidFill>
                <a:latin typeface="Courier New"/>
              </a:rPr>
              <a:t>Directories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="$(MSBuildProjectDirectory)\release\bin" /&gt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2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Jeder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sitzt zusätzlich noch ein </a:t>
            </a:r>
            <a:r>
              <a:rPr b="1" lang="de-DE" sz="1600" spc="-1" strike="noStrike">
                <a:solidFill>
                  <a:srgbClr val="ff3300"/>
                </a:solidFill>
                <a:latin typeface="Tahoma"/>
              </a:rPr>
              <a:t>ContinueOnError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– Attribut (Default=false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Hat dieses Attribut den Wert "true", so wird das Abarbeitung des Projekt trotz eines Fehlers des Tasks fortgesetzt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Im Standardfall wird die Abarbeitung bei einem Fehler eines Tasks sofort abgebroch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Bedingun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rget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s und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s können mit Hilfe des Condition-Attribut bedingt ausgeführ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Choose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Elements kann man Items und Properties  begingt setz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hoo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$(Configuration)'=='Debug' "&gt;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mpil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UnitTest\*.cs"/&gt; 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$(Configuration)'=='retail' 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fals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Whe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therwi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fals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DebugSymbol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therwi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hoos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7643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ItemGroup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MyItem Include="Source\Program.cs" 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ItemGroup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1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637000"/>
          <a:ext cx="7632720" cy="2893680"/>
        </p:xfrm>
        <a:graphic>
          <a:graphicData uri="http://schemas.openxmlformats.org/drawingml/2006/table">
            <a:tbl>
              <a:tblPr/>
              <a:tblGrid>
                <a:gridCol w="2019240"/>
                <a:gridCol w="5613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FullPat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:\MyProject\Source\Program.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oot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: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Filen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Extens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elative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rce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Dire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yProject\Source\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(RecursiveDi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the Include attribute contains the wildcard **, this metadata specifies the directory that replaced the wildcard to find the it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Kopieren eines Verzeichnis inkl. Unterverzeichni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:\versionX\src\**\*.*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pyFolder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py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Destination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SourceFil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-&gt;'c:\backup\%(RecursiveDir)%(Filename)%(Extension)')"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Bauen von c# Projekten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1.cs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2.cs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All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ing debug config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sBuil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ject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Targets="Build"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perti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nfiguration=Debug" 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sBuil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ject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" Targets="Build"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Properti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Configuration=Release" 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ispiel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Build" eines Deployment Projektes ".vdproj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200" spc="-1" strike="noStrike">
                <a:solidFill>
                  <a:srgbClr val="000000"/>
                </a:solidFill>
                <a:latin typeface="Tahoma"/>
              </a:rPr>
              <a:t>C:\Programme\Microsoft Visual Studio 8\Common7\I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1.vd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Projekt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My2.vdproj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BuildProj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Exe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Command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$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SDevPath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\devenv.exe /build 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Projekt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MS Build Commandlin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msbuild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Switche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] [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ProjectFile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/target: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/target:Resources;Compi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/property:name=value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/property:WarningLevel=2;OutputDir=bin\Debu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itere Parameter betreffen Logging und Hilfe (/?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Lo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den Standard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Logger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per Commandline steuern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noconsolelogger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chaltet den Logger ab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consoleloggerparameters: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erformanceSumm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oSummar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oItemAndPropertyLis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/verbosity:</a:t>
            </a:r>
            <a:r>
              <a:rPr b="1" i="1" lang="de-DE" sz="1800" spc="-1" strike="noStrike">
                <a:solidFill>
                  <a:srgbClr val="000000"/>
                </a:solidFill>
                <a:latin typeface="Tahoma"/>
              </a:rPr>
              <a:t>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q[uiet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[inimal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n[ormal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[etailed]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ag[nostic]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Loggi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Jeder Build kann zusätzlich zur "normalen" Bildschirmausgabe mit Hilfe eines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Logger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protokolliert werd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sich entweder einen eigenen Logger schreiben oder auf bereits vorhandene zurückgreif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an kann jede von ILogger abgeleitete Klasse nutz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ufrufbeispiel: </a:t>
            </a:r>
            <a:br>
              <a:rPr sz="1800"/>
            </a:b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MSBuild /nologo /noconsolelogger /logger:MyLogger.dl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Beispiel für die Ableitung eines Loggers: siehe MSD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as ist MS Build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o finde ich MS Build 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bau einer Projektdate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mponenten eine Projektdatei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ispie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sourc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Einbinden von Tas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it Hilfe des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mport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– Tasks können Targets aus einem Projekt in ein anderes eingebunden werd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Impor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my.proj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Anwendungsgebiete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Einbinden von Einstellungen und Pfaden (z.B. SourceSafe, Developerstudio,etc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Tasks Outpu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Task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s können mit Hilfe von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Output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-Attributen Werte an das Projekt zurückgeben, die danach weiter verwendet werden könn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S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CSFil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WarningLevel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$(WarningLevel)"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Outpu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askParamete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OutputAssembly"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temNam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EXEFil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SC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Schreibt den Namen der Assembly in die ItemGroup mit dem Namen ExeFi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output: 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@(EXEFile)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Schreiben eines Tas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m einen eigenen </a:t>
            </a:r>
            <a:r>
              <a:rPr b="1" lang="de-DE" sz="1800" spc="-1" strike="noStrike">
                <a:solidFill>
                  <a:srgbClr val="990000"/>
                </a:solidFill>
                <a:latin typeface="Tahoma"/>
              </a:rPr>
              <a:t>Task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zu schreiben, muß man eine Assembly erzeugen. Jede von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Utilities.Task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abgeleitete Klasse steht später als Task zur Verfügung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Die Assembly benötigt Referenzen auf </a:t>
            </a: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Utilities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und</a:t>
            </a:r>
            <a:br>
              <a:rPr sz="1800"/>
            </a:br>
            <a:r>
              <a:rPr b="1" sz="1800" spc="-1" strike="noStrike">
                <a:solidFill>
                  <a:srgbClr val="000000"/>
                </a:solidFill>
                <a:latin typeface="Courier New"/>
              </a:rPr>
              <a:t>Microsoft.Build.Framework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Damit man den Task später in einem Projekt nutzen kann, muß man einen UsingTask ins Projekt einfügen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990000"/>
                </a:solidFill>
                <a:latin typeface="Courier New"/>
              </a:rPr>
              <a:t>UsingTas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TaskNam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NameSpace.Tas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3300"/>
                </a:solidFill>
                <a:latin typeface="Courier New"/>
              </a:rPr>
              <a:t>AssemblyFi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="</a:t>
            </a: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AssemblyName.d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/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Tahoma"/>
              </a:rPr>
              <a:t>Beispiel: TimeTask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System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Microsoft.Build.Utilities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3333ff"/>
                </a:solidFill>
                <a:latin typeface="Courier New"/>
              </a:rPr>
              <a:t>using</a:t>
            </a:r>
            <a:r>
              <a:rPr b="0" sz="1200" spc="-1" strike="noStrike">
                <a:solidFill>
                  <a:srgbClr val="000000"/>
                </a:solidFill>
                <a:latin typeface="Courier New"/>
              </a:rPr>
              <a:t> Microsoft.Build.Framework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namespac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TimeTas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 cla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9966"/>
                </a:solidFill>
                <a:latin typeface="Courier New"/>
              </a:rPr>
              <a:t>Get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: Microsoft.Build.Utilities.</a:t>
            </a:r>
            <a:r>
              <a:rPr b="0" sz="1400" spc="-1" strike="noStrike">
                <a:solidFill>
                  <a:srgbClr val="339966"/>
                </a:solidFill>
                <a:latin typeface="Courier New"/>
              </a:rPr>
              <a:t>Task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string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m_CurrentTime 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overrid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bool Execute(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m_CurrentTime = DateTime.Now.ToString("</a:t>
            </a:r>
            <a:r>
              <a:rPr b="0" sz="1400" spc="-1" strike="noStrike">
                <a:solidFill>
                  <a:srgbClr val="990000"/>
                </a:solidFill>
                <a:latin typeface="Courier New"/>
              </a:rPr>
              <a:t>MM/dd/yyyy HH:mm:ss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return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true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[Output]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3333ff"/>
                </a:solidFill>
                <a:latin typeface="Courier New"/>
              </a:rPr>
              <a:t>public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string Tim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get { return m_CurrentTime; 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56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sourc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channel9.msdn.com/wiki/default.aspx/MSBuild.HomePag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msdn2.microsoft.com/en-us/library/0k6kkbsd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http://msdn.microsoft.com/msdnmag/issues/06/06/InsideMSBuild/default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lab.msdn.microsoft.com/vs2005/teams/msbuild/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Microsoft Services (UK) Enterprise Solutions Build Framework (SBF) 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(SDC – Tasks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http://www.gotdotnet.com/codegallery/codegallery.aspx?id=b4d6499f-0020-4771-a305-c156498db75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ist MS Build 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S Build ist ein Werkzeug mit dem ma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alles automatisieren kann, wa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it .NET Code auszuführen is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er Kommandozeile auszuführen is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as Projektformat ist eine XML Datei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Buildengine steht als Kommandozeile oder als .NET Klasse zur Verfügung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Protokollierung kann mit Hilfe von selbst definierten Loggen angepass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o finde ich MS Build 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MS Build ist Bestandteil des .NET – Framework 2.0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as Kommandozeilentool findet man in %windows%\Microsoft.NET\Framework\v2.0.5072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Buildengine .NET Komponente befindet sich in der Assembly: Microsoft.Build.Engine.d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ufbau einer Projektdatei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Projektdatei ist ein XML – File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n Minimalprojekt sieht wie folgt aus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Tasks, ... 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!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--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pp: Die Tags sind case sensitive !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500280"/>
            <a:ext cx="77868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Beispie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xmln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http://schemas.microsoft.com/developer/msbuild/2003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Beispiel fuer das Kopieren einer Datei !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Name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="backup_win_ini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&lt;!-- win.ini in das Verzeichnis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 des B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uildprojekt </a:t>
            </a:r>
            <a:r>
              <a:rPr b="1" lang="de-DE" sz="1400" spc="-1" strike="noStrike">
                <a:solidFill>
                  <a:srgbClr val="777777"/>
                </a:solidFill>
                <a:latin typeface="Courier New"/>
              </a:rPr>
              <a:t>kopieren</a:t>
            </a:r>
            <a:r>
              <a:rPr b="1" sz="1400" spc="-1" strike="noStrike">
                <a:solidFill>
                  <a:srgbClr val="777777"/>
                </a:solidFill>
                <a:latin typeface="Courier New"/>
              </a:rPr>
              <a:t> !-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Copy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SourceFiles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c:\windows\win.ini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ff3300"/>
                </a:solidFill>
                <a:latin typeface="Courier New"/>
              </a:rPr>
              <a:t>DestinationFolder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="$(MSBuildProjectDirectory)„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sz="1400" spc="-1" strike="noStrike">
                <a:solidFill>
                  <a:srgbClr val="cc0000"/>
                </a:solidFill>
                <a:latin typeface="Courier New"/>
              </a:rPr>
              <a:t>Project</a:t>
            </a:r>
            <a:r>
              <a:rPr b="1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n einer Projektdatei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13600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Ite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tem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stellen Eingaben dar und werden in Gruppen (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Itemcollection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) mit Hilfe von benutzerdefinierten Listennamen eingeteilt. Diese Eingaben können als Parameter für </a:t>
            </a:r>
            <a:r>
              <a:rPr b="1" lang="de-DE" sz="1800" spc="-1" strike="noStrike">
                <a:solidFill>
                  <a:srgbClr val="cc0000"/>
                </a:solidFill>
                <a:latin typeface="Tahoma"/>
              </a:rPr>
              <a:t>Task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benutzt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file1.cs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file2.cs"/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6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Referenzierung der Itemcollections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m Projekt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@(</a:t>
            </a:r>
            <a:r>
              <a:rPr b="1" i="1" lang="de-DE" sz="1800" spc="-1" strike="noStrike">
                <a:solidFill>
                  <a:srgbClr val="000000"/>
                </a:solidFill>
                <a:latin typeface="Courier New"/>
              </a:rPr>
              <a:t>ItemCollectionNam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Hier: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@(</a:t>
            </a:r>
            <a:r>
              <a:rPr b="1" lang="de-DE" sz="18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tems können auch Wildcards enthalten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*.cs"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*.cs"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Ex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"DoNotBuild.cs" 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600" spc="-1" strike="noStrike">
                <a:solidFill>
                  <a:srgbClr val="99cc00"/>
                </a:solidFill>
                <a:latin typeface="Courier New"/>
              </a:rPr>
              <a:t>Compil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6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600" spc="-1" strike="noStrike">
                <a:solidFill>
                  <a:srgbClr val="000000"/>
                </a:solidFill>
                <a:latin typeface="Courier New"/>
              </a:rPr>
              <a:t> = "images\**\*.jpg" /&gt;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Ite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cc0000"/>
                </a:solidFill>
                <a:latin typeface="Tahoma"/>
              </a:rPr>
              <a:t>Items</a:t>
            </a: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können zusätzlich Metadaten erhalt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 "One.cs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John Do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Includ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 "Two.cs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Jane Doe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auto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Item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Metadaten können dann z.B. in Bedingungen ausgewertet werden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="Batch"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Message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1400" spc="-1" strike="noStrike">
                <a:solidFill>
                  <a:srgbClr val="ff3300"/>
                </a:solidFill>
                <a:latin typeface="Courier New"/>
              </a:rPr>
              <a:t>Tex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@(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MySources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Condition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=" '%(autor)' == 'John Doe' "/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Targe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Items können auch per "Output" von Tasks befüllt werd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omponente: Properti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7786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Eigenschaften stellen key/value paare dar, die zur Konfiguration benutzt werden können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Properties werden als Kinder des "PropertyGroup" Elements deklariert.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BuildDi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Build&lt;/</a:t>
            </a:r>
            <a:r>
              <a:rPr b="1" lang="de-DE" sz="1400" spc="-1" strike="noStrike">
                <a:solidFill>
                  <a:srgbClr val="99cc00"/>
                </a:solidFill>
                <a:latin typeface="Courier New"/>
              </a:rPr>
              <a:t>BuildDir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de-DE" sz="1400" spc="-1" strike="noStrike">
                <a:solidFill>
                  <a:srgbClr val="cc0000"/>
                </a:solidFill>
                <a:latin typeface="Courier New"/>
              </a:rPr>
              <a:t>PropertyGrou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Zugriff aus dem Projekt: </a:t>
            </a: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$(PropertyName)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Die Werte von Properties können per Commandline beim Aufruf von MSBuild gesetzt werden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(/property:BuildDir=c:\temp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Folgende Eigenschaften sind vordefiniert: vordefinierte Eigenschafte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alf Karle</dc:creator>
  <dc:description/>
  <dc:language>en-US</dc:language>
  <cp:lastModifiedBy>Ralf Karle</cp:lastModifiedBy>
  <dcterms:modified xsi:type="dcterms:W3CDTF">2006-07-19T17:41:46Z</dcterms:modified>
  <cp:revision>250</cp:revision>
  <dc:subject/>
  <dc:title>Einführung in MS Build</dc:title>
</cp:coreProperties>
</file>