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173-F462-4D7F-BCE5-FDDA710F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07F-F69F-467A-824B-A731910A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8F1-FD86-42B8-9A05-786CEB18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E08-C5D3-46CE-BC36-3F9DC7AF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CEB-0904-4DEA-992B-03ED968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647-DA67-47D5-A654-F7E259D4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E9A-638B-4CCF-8188-9AD49E25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689-A0DE-4D64-9918-0EEF1EA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672-C036-47D5-8197-B01C4041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42B-80B9-429B-A027-2C59219C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A2C-3D85-48F0-BFBA-30C43A2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F14-2D7F-4376-B60F-45260A0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D680-763B-48C0-BDAD-49281178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APPLICATION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84"/>
                </a:solidFill>
                <a:latin typeface="Square721 BdEx BT"/>
              </a:rPr>
              <a:t>MORITZ PFENN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984"/>
                </a:solidFill>
                <a:latin typeface="Square721 Ex BT"/>
              </a:rPr>
              <a:t>m.pfennig@futureproofed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MINI-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41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ebuggen von Anwendungen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debuggen?  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UserScoped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962520" cy="17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344000" cy="32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isherig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ehrfacher Einsatz innerhalb einer 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apselung &amp; eigene Wrapper-K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IPersistComponent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Load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ave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gene 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teil durch Erweit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, -medium &amp; einiges meh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 per Attri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Custom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3440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utzerdefiniert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PropertyGrid als guter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AUSBL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69628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3200400" cy="12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Anforder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nforderungen a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icherheitsrelevante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nwendung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enutzer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.NET 1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640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tellungen speichern mit .NET 1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gi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genentwicke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Management Application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649680"/>
            <a:ext cx="6408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ynam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ögliche Ty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ad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arsing, merging,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rogrammier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in aller K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nf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Typisi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Flex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unter .NET 2.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Weitere grundlegend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rchitektur ermöglicht klare Tr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Persistenzmecha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S 2005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chränkungen der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sual Studio Add-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icrosoft Office Add-Ins &amp; Projekte (V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trols, gehostet im 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ung sicherheitsrelevant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8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swertung zur Lauf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gabe: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Häufig verwendeten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faultSetting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Brow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ispla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valid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er Ereignis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S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Property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ancelEventA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4:11:52Z</dcterms:created>
  <dc:creator>Moritz Pfennig</dc:creator>
  <dc:description/>
  <dc:language>en-US</dc:language>
  <cp:lastModifiedBy>mo</cp:lastModifiedBy>
  <dcterms:modified xsi:type="dcterms:W3CDTF">2006-07-19T15:51:43Z</dcterms:modified>
  <cp:revision>78</cp:revision>
  <dc:subject/>
  <dc:title>Folie 1</dc:title>
</cp:coreProperties>
</file>