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9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58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5940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592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15A45-BC13-46A3-9A9C-2F58C00E76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12A4-F3B0-4798-B1CF-BD127943E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7AA6-8F13-4D33-9058-FFC13591C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7A40-629D-440D-B098-27A0C7E70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47FB-073F-4167-8723-5C397608C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98E6-1B12-43EC-B1A4-ECA83452C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532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3440" y="162828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532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3440" y="4260240"/>
            <a:ext cx="26456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F942-5205-4720-8C82-64DF79A52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B036-5611-4AA0-B1BC-A63B1BFE0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13F9-1B0A-4379-912F-8E9D14B61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90040"/>
            <a:ext cx="821700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5F7A-9144-44C4-A2D2-B50E20FD3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20B7-7768-475F-8600-2ABFEC56F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400" y="426024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1DF3-0C19-4E4D-99C7-32C9C4782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628280"/>
            <a:ext cx="40096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60240"/>
            <a:ext cx="82170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29EC-B0B8-4B57-A622-6D22BB7D0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628280"/>
            <a:ext cx="82170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000" y="590040"/>
            <a:ext cx="82170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D7A3D-2EBE-4229-89C8-5FA5B272B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2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214360"/>
            <a:ext cx="87012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360" indent="-25704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5560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667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6676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68280"/>
            <a:ext cx="87138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16.05.200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31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Lucida Sans Unicode"/>
              </a:rPr>
              <a:t>Miroslaw Dobrzanski-Neuman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iroslaw@faneu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254240"/>
                <a:tab algn="l" pos="1887480"/>
                <a:tab algn="l" pos="2521080"/>
                <a:tab algn="l" pos="3154320"/>
                <a:tab algn="l" pos="3787920"/>
                <a:tab algn="l" pos="4421160"/>
                <a:tab algn="l" pos="5054760"/>
                <a:tab algn="l" pos="5688000"/>
                <a:tab algn="l" pos="6321600"/>
                <a:tab algn="l" pos="6954840"/>
                <a:tab algn="l" pos="7588080"/>
                <a:tab algn="l" pos="8229600"/>
                <a:tab algn="l" pos="8854920"/>
                <a:tab algn="l" pos="9488520"/>
                <a:tab algn="l" pos="10121760"/>
                <a:tab algn="l" pos="10755360"/>
                <a:tab algn="l" pos="10779120"/>
                <a:tab algn="l" pos="10780560"/>
                <a:tab algn="l" pos="1078236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faneu.de/mirosl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y Attribu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nt das Produ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 sehr billig, umso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fzählung sehr einf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zialisierung erlaub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halten programmier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r Factory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Überprüfung des Produkt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886200"/>
            <a:ext cx="360072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Null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IsAssignableFrom (t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4560" y="5157720"/>
            <a:ext cx="3240000" cy="525600"/>
          </a:xfrm>
          <a:prstGeom prst="borderCallout1">
            <a:avLst>
              <a:gd name="adj1" fmla="val 18750"/>
              <a:gd name="adj2" fmla="val -8333"/>
              <a:gd name="adj3" fmla="val 99791"/>
              <a:gd name="adj4" fmla="val -6025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 eher eine „Factory Method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56360" y="4165560"/>
            <a:ext cx="3240000" cy="720720"/>
          </a:xfrm>
          <a:prstGeom prst="borderCallout1">
            <a:avLst>
              <a:gd name="adj1" fmla="val 18750"/>
              <a:gd name="adj2" fmla="val -8333"/>
              <a:gd name="adj3" fmla="val 142277"/>
              <a:gd name="adj4" fmla="val -3806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Produkte des Typen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6360" y="2851200"/>
            <a:ext cx="3240000" cy="752400"/>
          </a:xfrm>
          <a:prstGeom prst="borderCallout1">
            <a:avLst>
              <a:gd name="adj1" fmla="val 18750"/>
              <a:gd name="adj2" fmla="val -8333"/>
              <a:gd name="adj3" fmla="val 154995"/>
              <a:gd name="adj4" fmla="val -4443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im Sinne abstrakte 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risiert mit Produkt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3875040"/>
            <a:ext cx="493380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dAction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70360" y="1979640"/>
            <a:ext cx="3689280" cy="539640"/>
          </a:xfrm>
          <a:prstGeom prst="borderCallout1">
            <a:avLst>
              <a:gd name="adj1" fmla="val 18750"/>
              <a:gd name="adj2" fmla="val -8333"/>
              <a:gd name="adj3" fmla="val 366421"/>
              <a:gd name="adj4" fmla="val -1706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kannt auf Ebene der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30720" y="270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74861"/>
              <a:gd name="adj4" fmla="val -2307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hrere Instanzen für verschiedene Produkte erla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0720" y="4140360"/>
            <a:ext cx="3510000" cy="720720"/>
          </a:xfrm>
          <a:prstGeom prst="borderCallout1">
            <a:avLst>
              <a:gd name="adj1" fmla="val 18750"/>
              <a:gd name="adj2" fmla="val -8333"/>
              <a:gd name="adj3" fmla="val 130481"/>
              <a:gd name="adj4" fmla="val -39865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ufzurufende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!!Parameter darf nicht null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91120" y="5753160"/>
            <a:ext cx="3510000" cy="539640"/>
          </a:xfrm>
          <a:prstGeom prst="borderCallout1">
            <a:avLst>
              <a:gd name="adj1" fmla="val 18750"/>
              <a:gd name="adj2" fmla="val -8333"/>
              <a:gd name="adj3" fmla="val 67819"/>
              <a:gd name="adj4" fmla="val -52726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ugungs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ere konkrete Fabri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2909880"/>
            <a:ext cx="6640560" cy="35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Us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ttributeTarge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Assembly, AllowMultiple=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ructor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c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FactoryAttribute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ci    = t.GetConstructor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Typ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ci =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r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rgumentExce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gu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_ci.Invoke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{ _guid, _name, _value 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10160" y="2457360"/>
            <a:ext cx="3149640" cy="782640"/>
          </a:xfrm>
          <a:prstGeom prst="borderCallout1">
            <a:avLst>
              <a:gd name="adj1" fmla="val 18750"/>
              <a:gd name="adj2" fmla="val -8333"/>
              <a:gd name="adj3" fmla="val 195120"/>
              <a:gd name="adj4" fmla="val -307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siert mit Produkttyp und Produkt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70720" y="5219640"/>
            <a:ext cx="2970000" cy="539640"/>
          </a:xfrm>
          <a:prstGeom prst="borderCallout1">
            <a:avLst>
              <a:gd name="adj1" fmla="val 18750"/>
              <a:gd name="adj2" fmla="val -8333"/>
              <a:gd name="adj3" fmla="val 133175"/>
              <a:gd name="adj4" fmla="val -5151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tige Instanz erzeu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 Zaub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2025720"/>
            <a:ext cx="8459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dActionFacto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A96DE5CD-8266-46ad-8546-40C2B02C72C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i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I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ssembly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3E8A646F-F1C6-4bf0-A203-099FEBC3DC89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e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M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040" y="2867040"/>
            <a:ext cx="863604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xecutingAssembly 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 =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EntryAssembly ().Loca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irectory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a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GetDirectoryName (loc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fis = di.GetFiles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*PI.dll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Fil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LoadFile(fi.FullNam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ssembly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loadActions (as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loadActions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ssemb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 attrs =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]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.GetCustomAttributes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ypeo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fore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FactoryAttribu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tem = att.Create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ctions[item.Guid] = it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21320" y="2965320"/>
            <a:ext cx="2398680" cy="635040"/>
          </a:xfrm>
          <a:prstGeom prst="borderCallout1">
            <a:avLst>
              <a:gd name="adj1" fmla="val 18750"/>
              <a:gd name="adj2" fmla="val -8333"/>
              <a:gd name="adj3" fmla="val 45319"/>
              <a:gd name="adj4" fmla="val -71550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n geladenen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9640" y="3780000"/>
            <a:ext cx="2430360" cy="360360"/>
          </a:xfrm>
          <a:prstGeom prst="borderCallout1">
            <a:avLst>
              <a:gd name="adj1" fmla="val 18750"/>
              <a:gd name="adj2" fmla="val -8333"/>
              <a:gd name="adj3" fmla="val 49949"/>
              <a:gd name="adj4" fmla="val -1074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 den PlugIn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89640" y="43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124935"/>
              <a:gd name="adj4" fmla="val -629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lobalen mit davon Abgelei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89640" y="5219640"/>
            <a:ext cx="2430360" cy="720720"/>
          </a:xfrm>
          <a:prstGeom prst="borderCallout1">
            <a:avLst>
              <a:gd name="adj1" fmla="val 18750"/>
              <a:gd name="adj2" fmla="val -8333"/>
              <a:gd name="adj3" fmla="val 74958"/>
              <a:gd name="adj4" fmla="val -129629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 einen Prototy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1530360"/>
            <a:ext cx="3149640" cy="539640"/>
          </a:xfrm>
          <a:prstGeom prst="borderCallout1">
            <a:avLst>
              <a:gd name="adj1" fmla="val 18750"/>
              <a:gd name="adj2" fmla="val -8333"/>
              <a:gd name="adj3" fmla="val 139972"/>
              <a:gd name="adj4" fmla="val -5961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rete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9560" y="3770280"/>
            <a:ext cx="2521080" cy="270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igenschaften / 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alisier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kterzeug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795840" y="2173320"/>
            <a:ext cx="482436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Edit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User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66A8D5F0-1E7C-4b60-B6D1-011257E83DD0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Produk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Edit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WriteP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, Produkt produk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Produkt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Stre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720" y="468000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5040360"/>
            <a:ext cx="1800360" cy="12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00360" y="4680000"/>
            <a:ext cx="18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5040360"/>
            <a:ext cx="162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80000" y="4680000"/>
            <a:ext cx="162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859280"/>
            <a:ext cx="900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00720" y="4859280"/>
            <a:ext cx="1079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00360" y="5187960"/>
            <a:ext cx="1663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8000"/>
              </a:lnSpc>
              <a:spcBef>
                <a:spcPts val="28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Produ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720" y="522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0720" y="5767560"/>
            <a:ext cx="19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 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840" y="3973680"/>
            <a:ext cx="218484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590400"/>
            <a:ext cx="821844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usammenfassu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887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bzw. Metafabriken werden wie Prototypen behandel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ialisierung wird von der .NET Laufzeitumgebung durchgefüh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afabriken erstellen komplex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8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erstellen konkrete 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651960" y="5219640"/>
            <a:ext cx="79974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5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 u="sng">
                <a:solidFill>
                  <a:srgbClr val="0000ff"/>
                </a:solidFill>
                <a:uFillTx/>
                <a:latin typeface="Arial"/>
              </a:rPr>
              <a:t>Eine Fabrik pro Produktty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Über m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erer, Archit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schung, Entwickl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s, Unix, Lin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C++, C#, (J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C, Web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5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25 Jahre davon 10 beruf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04800"/>
            <a:ext cx="822312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53038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ist eine 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as sind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dizierte Fabrik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briken als 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otstrap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00720" y="2700360"/>
            <a:ext cx="2338200" cy="1440000"/>
            <a:chOff x="5400720" y="2700360"/>
            <a:chExt cx="2338200" cy="1440000"/>
          </a:xfrm>
        </p:grpSpPr>
        <p:grpSp>
          <p:nvGrpSpPr>
            <p:cNvPr id="109" name=""/>
            <p:cNvGrpSpPr/>
            <p:nvPr/>
          </p:nvGrpSpPr>
          <p:grpSpPr>
            <a:xfrm>
              <a:off x="5400720" y="2700360"/>
              <a:ext cx="2338200" cy="1440000"/>
              <a:chOff x="5400720" y="2700360"/>
              <a:chExt cx="2338200" cy="14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400720" y="2700360"/>
                <a:ext cx="2338200" cy="360000"/>
              </a:xfrm>
              <a:prstGeom prst="roundRect">
                <a:avLst>
                  <a:gd name="adj" fmla="val 44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00720" y="3060360"/>
                <a:ext cx="2338200" cy="1080000"/>
              </a:xfrm>
              <a:prstGeom prst="roundRect">
                <a:avLst>
                  <a:gd name="adj" fmla="val 14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A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B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1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C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Facto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tellt Objekte eines bestimmte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zahl der Objekttypen beschrän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93680"/>
                <a:tab algn="l" pos="642960"/>
                <a:tab algn="l" pos="1092240"/>
                <a:tab algn="l" pos="1541520"/>
                <a:tab algn="l" pos="1990800"/>
                <a:tab algn="l" pos="2440080"/>
                <a:tab algn="l" pos="2889360"/>
                <a:tab algn="l" pos="3338640"/>
                <a:tab algn="l" pos="3787920"/>
                <a:tab algn="l" pos="4237200"/>
                <a:tab algn="l" pos="4686480"/>
                <a:tab algn="l" pos="5135400"/>
                <a:tab algn="l" pos="5584680"/>
                <a:tab algn="l" pos="6033960"/>
                <a:tab algn="l" pos="6483240"/>
                <a:tab algn="l" pos="6932520"/>
                <a:tab algn="l" pos="7381800"/>
                <a:tab algn="l" pos="7831080"/>
                <a:tab algn="l" pos="8280360"/>
                <a:tab algn="l" pos="8729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 Namentlich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14160"/>
            <a:ext cx="822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4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otyp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egränzte Anzahl von Objektty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 Basis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3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kterzeugung durch Kl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080" y="1628280"/>
            <a:ext cx="40147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300720" y="2700360"/>
            <a:ext cx="1619280" cy="2517840"/>
            <a:chOff x="6300720" y="2700360"/>
            <a:chExt cx="1619280" cy="2517840"/>
          </a:xfrm>
        </p:grpSpPr>
        <p:sp>
          <p:nvSpPr>
            <p:cNvPr id="118" name=""/>
            <p:cNvSpPr/>
            <p:nvPr/>
          </p:nvSpPr>
          <p:spPr>
            <a:xfrm>
              <a:off x="6300720" y="2700360"/>
              <a:ext cx="1619280" cy="2517840"/>
            </a:xfrm>
            <a:custGeom>
              <a:avLst/>
              <a:gdLst>
                <a:gd name="textAreaLeft" fmla="*/ 360 w 1619280"/>
                <a:gd name="textAreaRight" fmla="*/ 1618920 w 1619280"/>
                <a:gd name="textAreaTop" fmla="*/ 360 h 2517840"/>
                <a:gd name="textAreaBottom" fmla="*/ 2517480 h 2517840"/>
              </a:gdLst>
              <a:ahLst/>
              <a:rect l="textAreaLeft" t="textAreaTop" r="textAreaRight" b="textAreaBottom"/>
              <a:pathLst>
                <a:path w="21600" h="33583">
                  <a:moveTo>
                    <a:pt x="21" y="0"/>
                  </a:moveTo>
                  <a:arcTo wR="21" hR="21" stAng="16200000" swAng="-5400000"/>
                  <a:lnTo>
                    <a:pt x="0" y="33562"/>
                  </a:lnTo>
                  <a:arcTo wR="21" hR="21" stAng="10800000" swAng="-5400000"/>
                  <a:lnTo>
                    <a:pt x="21579" y="33583"/>
                  </a:lnTo>
                  <a:arcTo wR="21" hR="21" stAng="5400000" swAng="-5400000"/>
                  <a:lnTo>
                    <a:pt x="21600" y="21"/>
                  </a:lnTo>
                  <a:arcTo wR="21" hR="2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9640" y="287136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9640" y="340452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79640" y="395208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79640" y="4470840"/>
              <a:ext cx="1229040" cy="43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81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n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609480"/>
            <a:ext cx="822492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sdatenty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itor (Gu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ne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54520" y="1994040"/>
            <a:ext cx="3706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name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otec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ion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name  = na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Guid   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irt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Empty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60360" y="2411280"/>
            <a:ext cx="579132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7BB60E11-D823-4c8e-A361-3AE2699B5CDA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ush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"Push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um =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Parse (board.Input,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ultureInf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CurrentUICultur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lon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Pu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3324240"/>
            <a:ext cx="2430720" cy="539640"/>
          </a:xfrm>
          <a:prstGeom prst="borderCallout1">
            <a:avLst>
              <a:gd name="adj1" fmla="val 18750"/>
              <a:gd name="adj2" fmla="val -8333"/>
              <a:gd name="adj3" fmla="val -15722"/>
              <a:gd name="adj4" fmla="val -156754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Standard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stimmter Produk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" y="2340000"/>
            <a:ext cx="454824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nternal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stant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,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u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n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guid  = g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value = val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erform (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IBoa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oa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.Push (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Gu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_guid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verr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8080"/>
                </a:solidFill>
                <a:latin typeface="Arial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_guid, Name, _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89520" y="3022560"/>
            <a:ext cx="2789280" cy="720720"/>
          </a:xfrm>
          <a:prstGeom prst="borderCallout1">
            <a:avLst>
              <a:gd name="adj1" fmla="val 18750"/>
              <a:gd name="adj2" fmla="val -8333"/>
              <a:gd name="adj3" fmla="val 40925"/>
              <a:gd name="adj4" fmla="val -419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llen über Benutzerdefinierten 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4960"/>
            <a:ext cx="8229600" cy="10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Attributed Prototyped Class Factory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2360" indent="-252360">
              <a:lnSpc>
                <a:spcPct val="101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ltung von Prototype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e deserialisiere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glet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oblem der klassischen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e Elemente bekannt im Vora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2360" indent="-25236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ochspezialisierte Factory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nnt nur einen Produktty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560" indent="-271440">
              <a:lnSpc>
                <a:spcPct val="104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isierte Fact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5580000"/>
            <a:ext cx="5938920" cy="896760"/>
            <a:chOff x="900000" y="5580000"/>
            <a:chExt cx="5938920" cy="896760"/>
          </a:xfrm>
        </p:grpSpPr>
        <p:grpSp>
          <p:nvGrpSpPr>
            <p:cNvPr id="137" name=""/>
            <p:cNvGrpSpPr/>
            <p:nvPr/>
          </p:nvGrpSpPr>
          <p:grpSpPr>
            <a:xfrm>
              <a:off x="900000" y="5580000"/>
              <a:ext cx="2159280" cy="896760"/>
              <a:chOff x="900000" y="5580000"/>
              <a:chExt cx="2159280" cy="896760"/>
            </a:xfrm>
          </p:grpSpPr>
          <p:sp>
            <p:nvSpPr>
              <p:cNvPr id="138" name=""/>
              <p:cNvSpPr/>
              <p:nvPr/>
            </p:nvSpPr>
            <p:spPr>
              <a:xfrm>
                <a:off x="900000" y="5580000"/>
                <a:ext cx="215928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cto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0000" y="5877720"/>
                <a:ext cx="215928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680000" y="5580000"/>
              <a:ext cx="2158920" cy="896760"/>
              <a:chOff x="4680000" y="5580000"/>
              <a:chExt cx="2158920" cy="896760"/>
            </a:xfrm>
          </p:grpSpPr>
          <p:sp>
            <p:nvSpPr>
              <p:cNvPr id="141" name=""/>
              <p:cNvSpPr/>
              <p:nvPr/>
            </p:nvSpPr>
            <p:spPr>
              <a:xfrm>
                <a:off x="4680000" y="5580000"/>
                <a:ext cx="2158920" cy="299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duk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80000" y="5877720"/>
                <a:ext cx="2158920" cy="599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76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ne 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19280" y="6180120"/>
              <a:ext cx="2160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5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710240" y="1636560"/>
            <a:ext cx="4230720" cy="1621080"/>
          </a:xfrm>
          <a:prstGeom prst="borderCallout1">
            <a:avLst>
              <a:gd name="adj1" fmla="val 18750"/>
              <a:gd name="adj2" fmla="val -8333"/>
              <a:gd name="adj3" fmla="val 89958"/>
              <a:gd name="adj4" fmla="val -47162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adon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_instance =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g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Enumerat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_instanc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numeratePrototypes(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Ac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</a:rPr>
              <a:t>Ite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gt; actio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ne</cp:lastModifiedBy>
  <dcterms:modified xsi:type="dcterms:W3CDTF">2006-05-15T10:54:40Z</dcterms:modified>
  <cp:revision>1</cp:revision>
  <dc:subject/>
  <dc:title>Attributed Prototyped Class Factory</dc:title>
</cp:coreProperties>
</file>