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4C5A8-1A28-4937-9347-DD2B9E468A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8F4D9-7FEB-4DF3-8F63-82275C9347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5F1BD-F8A3-40B6-845B-D32113FFD5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2E71D-E238-4E1B-9084-8E58E8E11F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8DC14-74B9-43F9-9A58-8191C5D42E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43987-D7BD-4421-A3A2-9F44801E5F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26214-6800-40AA-9DEB-DC418CEEAF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B18B6-1D86-4F55-B5BE-DDEB884348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A4DF4-C48B-46C5-9ACF-CF9249C1DB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F27B5-4FA5-4F6B-AF6D-23F5284FC4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969DB-283C-47EE-AD70-BF236848B4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7DACF-97BE-4774-8E18-5B071C5577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81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65320" indent="-2667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03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EE10A-5F89-4AA1-914F-ED8FE772D7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68360" y="2852640"/>
            <a:ext cx="822960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5951520"/>
            <a:ext cx="35640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EMail:</a:t>
            </a: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mail@roland-weigelt.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Web: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www.roland-weigelt.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Blog: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weblogs.asp.net/rweigel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446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12880" indent="88920" algn="ctr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166760" indent="177840" algn="ctr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695600" indent="102960" algn="ctr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695600" indent="102960">
              <a:spcBef>
                <a:spcPts val="45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695600" indent="102960">
              <a:spcBef>
                <a:spcPts val="45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eblogs.asp.net/rweigelt/archive/2006/05/16/446536.aspx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69200"/>
                </a:solidFill>
                <a:latin typeface="Verdana"/>
              </a:rPr>
              <a:t>QuickTip: VS Editor Tuning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646080"/>
            <a:ext cx="64008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16.5.2006 –  Roland Weigel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39640" y="3989520"/>
            <a:ext cx="8280360" cy="15951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isual Studio Editor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Manchmal ist der Editor etwas "zäh"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ntelli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Tippen allgemein (auffällig z.B. in Kommentare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Hilft ein wenig: NavigationBar abschalt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NavigationBar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Generell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Manche benutzen sie ständig, andere gar nic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ch persönlich brauche sie ab und zu, will daher nicht darauf verzich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lso: An/Abschalten, möglichst bequem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Lösung: Makr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de-DE" sz="1200" spc="-1" strike="noStrike">
                <a:solidFill>
                  <a:srgbClr val="333399"/>
                </a:solidFill>
                <a:latin typeface="Tahoma"/>
              </a:rPr>
              <a:t>Sub ToggleCSharpNavigationBar()</a:t>
            </a:r>
            <a:br>
              <a:rPr sz="1200"/>
            </a:br>
            <a:r>
              <a:rPr b="1" lang="de-DE" sz="1200" spc="-1" strike="noStrike">
                <a:solidFill>
                  <a:srgbClr val="333399"/>
                </a:solidFill>
                <a:latin typeface="Tahoma"/>
              </a:rPr>
              <a:t>    Dim objShowNavigationBar As EnvDTE.Property</a:t>
            </a:r>
            <a:br>
              <a:rPr sz="1200"/>
            </a:br>
            <a:r>
              <a:rPr b="1" lang="de-DE" sz="1200" spc="-1" strike="noStrike">
                <a:solidFill>
                  <a:srgbClr val="333399"/>
                </a:solidFill>
                <a:latin typeface="Tahoma"/>
              </a:rPr>
              <a:t>    objShowNavigationBar = DTE.Properties("TextEditor", "CSharp").Item("ShowNavigationBar")</a:t>
            </a:r>
            <a:br>
              <a:rPr sz="1200"/>
            </a:br>
            <a:r>
              <a:rPr b="1" lang="de-DE" sz="1200" spc="-1" strike="noStrike">
                <a:solidFill>
                  <a:srgbClr val="333399"/>
                </a:solidFill>
                <a:latin typeface="Tahoma"/>
              </a:rPr>
              <a:t>    objShowNavigationBar.Value = Not objShowNavigationBar.Value</a:t>
            </a:r>
            <a:br>
              <a:rPr sz="1200"/>
            </a:br>
            <a:r>
              <a:rPr b="1" lang="de-DE" sz="1200" spc="-1" strike="noStrike">
                <a:solidFill>
                  <a:srgbClr val="333399"/>
                </a:solidFill>
                <a:latin typeface="Tahoma"/>
              </a:rPr>
              <a:t>End Sub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NavigationBar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Install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Tools -&gt; Macros -&gt; Macros 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Neues Modul (Name egal, z.B. "Misc") oder Vorhande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Makrotext einkopie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ntweder Hotkey beleg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Tools -&gt; Options -&gt; Keybo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Oder Toolbar-Button definie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Rechte Maustaste auf Toolbar-Bereich -&gt; Customiz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usführliche Beschreibung in meinem Weblo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http://weblogs.asp.net/rweigelt/archive/2006/05/16/446536.asp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[DEMO]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0T20:54:38Z</dcterms:created>
  <dc:creator>Roland Weigelt</dc:creator>
  <dc:description/>
  <dc:language>en-US</dc:language>
  <cp:lastModifiedBy>Roland Weigelt</cp:lastModifiedBy>
  <dcterms:modified xsi:type="dcterms:W3CDTF">2006-05-16T16:29:13Z</dcterms:modified>
  <cp:revision>235</cp:revision>
  <dc:subject/>
  <dc:title>Slide 1</dc:title>
</cp:coreProperties>
</file>