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A38E-0DE3-4839-AF91-B3DC02A2A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D66A2-6E44-436A-8EED-F32B9E74C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82F7-E267-4437-AE59-6A6874C95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919EB-45C7-42B8-BC97-61B7C6493C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73FF-EC37-499A-A4B7-A55677C65B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BE31-77EB-4AAC-80FB-C09CADAAE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899B-2907-41BA-9C0B-8E1AA25E3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2564-56F8-4EB8-BE6A-CBA887E8A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8D0D-80F8-4F91-8BAB-7E16FB499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CB35-B590-4F46-AB28-78B4E6D47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DAB4-262F-48B6-A4B2-B2A110F95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74B0-1003-4C24-870A-0F65274ED7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3C2B-78D3-4108-8D93-E5B8230B3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0536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Remote Debugg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 Debugging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läuft auf Entwicklungsrechner problem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 dem Produktivsystem passiert „gar nicht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auf Zielrechner remote debug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Visual Studio 2005 sehr viel einfacher als b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Remote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s Remote Debugging Monitors (msvsmon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von einer Netzfreigabe gestar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stallation ist ebenfalls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ternativ lässt sich ein Dienst konfigur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rtfreigaben können automatisch konfigurier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2565360"/>
          <a:ext cx="56926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56926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Host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Host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Source-Code der Anwend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bindung zum Prozess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meldung am Remote-Rechner ist nur über einen Benutzer mit Administratorrechten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Kommunikation muss ggf. in der Firewall freigegeben s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ck: Auf Remote-Computer gleichen UserName und Passwort wie auf Host einrichten (ggf. Policy auf Host änder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Ports: TCP 135, ggf. UDP 4500 und 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For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in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r Anwendung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-Informationen müssen vorhanden sein (pdb-Date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Prozess auf dem Remote-Rechner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as Programm dort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m auf dem Remote-Rechner ausfüh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gramm hält am Breakpoint auf dem Hos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eb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IIS-Dienst (aspnet_wp.exe oder w3wp.exe)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ie WebSite ausgeführt wi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ruf der WebSite im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 muss in web.config aktiviert sein (debug = 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r Debugger hält die WebSite am Breakpoin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chtung: Alle WebSites dieses IIS-Prozesses werden angehal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bindung h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47760" y="1814400"/>
            <a:ext cx="66470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Stefan Lange</dc:creator>
  <dc:description/>
  <dc:language>en-US</dc:language>
  <cp:lastModifiedBy>Stefan Lange</cp:lastModifiedBy>
  <dcterms:modified xsi:type="dcterms:W3CDTF">2006-05-18T17:26:41Z</dcterms:modified>
  <cp:revision>224</cp:revision>
  <dc:subject/>
  <dc:title>Remote Debugging</dc:title>
</cp:coreProperties>
</file>