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09A-E2BF-49E8-A256-2882B66D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761-18A8-418C-A08F-C57F630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2BB-3175-48A2-A1F6-2E1D713C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084-4F18-4847-B874-12BF39E4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CD41-D75C-4662-9A98-F500FF6F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7BA8-E31D-4DD4-88BF-665EEEF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45E9-6ED9-4A0F-8A40-295AAE55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675E-AE4A-4E33-A450-CA9CB7D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362A-18FA-47D1-898D-DB7970BF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85A-323A-47DD-8822-C1DF1C2E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3C7-CBF7-4E17-A7A1-9FAEB56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448-BAFE-4B09-AFFE-5C7BCEB2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C619-BFC0-4D0C-9908-54454ED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750A-F0F2-4596-B80B-5D6E49D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182C-B97C-4AC6-B271-CE5EA6F9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1A8C-4EFC-4058-B15B-28C1FB3D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404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3880" y="4971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404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63880" y="5439600"/>
            <a:ext cx="2551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603E-B44A-43DA-8DE2-E29C9983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B00-4E95-4E4A-AD72-89D63D42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8B5-911A-4682-B04E-3A44F23A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E0C-43ED-47A2-851B-24BA522F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4038120"/>
            <a:ext cx="792468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5C5-EC98-4CBE-AE9A-CBB5A1B5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1AA-3830-4800-9CCE-012E3A7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5360" y="5439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646-643B-45B1-B9A6-469F3537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5360" y="4971600"/>
            <a:ext cx="38671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5439600"/>
            <a:ext cx="79246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1A7-6EB5-4DAF-9F73-7FEDEF9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B78-8B06-4BFC-ADF0-D8F20FD4CC0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1515-8D3C-4E41-9FB4-8F677D14E2E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mit ASP.NE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Grundla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400800"/>
            <a:ext cx="75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Tahoma"/>
              </a:rPr>
              <a:t>Bonn-To-Code.NET, 18.04.2006, Albert Weinert, info@der-alber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Problem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eine Allheilmitt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 gut wie kein Fallback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arrierefreihei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uchmaschinen Indiz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Benutzerfeed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Lesezeichen und Histor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ewsta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ur Tex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infach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fwendig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DOM zu verarbeit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owserunterschied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er XSLT transformier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atenübergabe an Cli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Object Notation (JSON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omplexere Struktur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Parsen notwendig (via eval()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Browserübergreifen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chneller und Platz sparender als X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ingebautes „AJAX“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1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nicht wirklich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P.NET 2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 Callback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reeView (Populate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GridView (Sorting, 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tailsView (Pag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Client Callbacks, Datenübergabe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ramework für „pures“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lientseitiger Aufruf von Servermethod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„Remote Script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ur Datenaustaus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utomatische JSON Konvertie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xception Handl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-Warteschlan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icherhei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Sicherhei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 ist einseh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gaben überprüf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quests nur auf der gleichen Domain mögli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Javascript-Aufrufe manipulierb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KAMMERJÄG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Javascript Debugging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Über mich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lbert Weinert</a:t>
            </a:r>
            <a:br>
              <a:rPr sz="3200"/>
            </a:b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gestellter und Freiberufl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.NET 2.0 seit Whidbey Beta 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Entwicklung seit einem Ja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oftwareentwicklung schon ewi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bentwicklung halb so la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fehler anzeig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Debuggen im Visual St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kriptexplorer</a:t>
            </a:r>
            <a:br>
              <a:rPr sz="2800"/>
            </a:b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enkma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Visual Studio Unterstütz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iddl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b Developer Toolb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Live Http Hea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80808"/>
                </a:solidFill>
                <a:latin typeface="Tahoma"/>
              </a:rPr>
              <a:t>Debugge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 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Mehr Auswahl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ostback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infachste Anwend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ndert immer komplette Sei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auscht geändertes HTM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ält Viewstat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theoretisch Fallback mögli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erhöhte Serverbelastu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e optimierten Control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„</a:t>
            </a: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emote Scripter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iner Datenautasc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Viewstate Problem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kein Rendern der Seite auf Serv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Clientseitiges Render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Fallback sehr, sehr, sehr schwieri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Serverlast gering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Weniger Datentransf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mehr Arbei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mework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.NET Professio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Comfort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agic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nth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icrosoft Atla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80808"/>
                </a:solidFill>
                <a:latin typeface="Tahoma"/>
              </a:rPr>
              <a:t>Postbacker, Remote Scrip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ertig Aus!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as ist AJAX ni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per Han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mit Ajax.NET Pr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itere Framewor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synchronous Javascript and XM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mbination vorhandener Technik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Per Javascript abgerufene „Webseiten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ia XMLHttpRequest bzw. XmlHtt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Einbringen des Ergebnisses in die Se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80808"/>
                </a:solidFill>
                <a:latin typeface="Tahoma"/>
              </a:rPr>
              <a:t>XMLHttpRequest Brows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5.0 (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nternet Explorer ab 7.0 (Native, Active X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Firefox ab 1.0 (Mozilla Suite, Seamonkey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afari ab 1.2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Opera ab 8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Netscape ab 7.1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Konquero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iCab ab 3.0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ekanntere AJAX Si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Map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Sugge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indows Live Local (Virtual Earth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Google Calenda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Writ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Einfaches AJAX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as ist AJ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Rückschritt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ere Sprach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wieriger zu Debugg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Mehraufwand in der Entwickl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lagerung vom Server auf den Clien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AJAX ist was man daraus mach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Verbesserte Benutzerführu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Postback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Weniger Datenverkeh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80808"/>
                </a:solidFill>
                <a:latin typeface="Tahoma"/>
              </a:rPr>
              <a:t>Schnellere Web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49:12Z</dcterms:created>
  <dc:creator>aweinert</dc:creator>
  <dc:description/>
  <dc:language>en-US</dc:language>
  <cp:lastModifiedBy>Albert Weinert</cp:lastModifiedBy>
  <dcterms:modified xsi:type="dcterms:W3CDTF">2006-04-20T14:30:33Z</dcterms:modified>
  <cp:revision>24</cp:revision>
  <dc:subject/>
  <dc:title>AJAX mit ASP.NET</dc:title>
</cp:coreProperties>
</file>